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52B-226E-46E2-A20B-E68DDA50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F2B-4C62-4E3C-964F-5DCA54D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C7A-66CC-4AFD-BD12-89855544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1B6-299E-42D6-B986-AF483374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B10-CFB8-42B4-973B-772E257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9E67-513F-4684-94D8-C3D4EEBC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BA05-8B78-4281-8D4D-256441E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FDB2-7A20-42F2-8229-C1750E9D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F05D-00A9-4700-9C36-0C86B03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23A-19EE-42EF-88F2-EEEEFCE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CA9E-B6BD-48E0-B2F8-39D7086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DE5-E685-42D6-93F8-2D758EA1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7F1F-2FBA-4C97-B68C-3A798F0F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CCB0-D262-4176-B28C-03AC1F7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7DA-7CEC-4965-A737-FFC324A4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5A4A-83EE-48B0-ACCA-09985388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2182-48C8-42E1-970C-33444C4A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4E7-C8C0-42BC-938B-71B6DF7A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954-13B2-4326-A499-1B541DF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618-DFF6-42F0-9771-F8CDC21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4A7-B560-4366-85F0-58FCA89A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275-00C1-44BD-AAF7-2C4A0D01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488-B5A0-4BC6-81E9-8820AF6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105-60B5-4232-848A-036AA0F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719-FF49-470D-A310-4AD0C45DAD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23A3-158B-43BB-A5EF-388BC845DE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1 – Młodzież dla Eur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2 – Wolontariat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3 – Młodzi w świec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4 – Systemy wspierania 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5 – Wsparcie dla współpracy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rajowych – kilkumiesięcznych przedsięwzięć młodzieży o charakterze lokalnym  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Wolontariat Europejsk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European Voluntary Service – EVS) umożliwia wolontariuszowi lub grupie wolontariuszy podjęcie pracy społecznej we wszystkich Krajach Programu i Sąsiedzkich Krajach Partnerskich. EVS powstał po to, by wolontariusze mogli zdobywać kompetencje i umiejętności wpływające na ich rozwój osobisty i zawodowy przez doświadczenia związane z edukacją pozaformalną. W Wolontariacie Europejskim może uczestniczyć każdy młody człowiek w wieku od 18 do 30 lat, w szczególnych sytuacjach możliwy jest udział młodzieży w wieku 16 - 17 l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Młodzi w świecie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jest Akcją promującą wymianę i współpracę z regionami leżącymi poza UE i krajami nie należącymi do Krajów Programu. Wspiera projekty angażujące młodych ludzi i organizacje z Krajów Partnerskic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kcja 4 -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ystemy wspierania młodzież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 działania organizacji promujących aktywne obywatelstwo na poziomie lokalnym, krajowym i międzynarodowy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eruje szkolenia, seminaria i staże dla osób pracujących z młodzież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ożliwia wymianę doświadczeń, promocję dobrych praktyk oraz zdobywa­nie nowych kompetencj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że w niej uczestniczyć zarówno młodzież jak i osoby pracujące z młodymi ludźmi (bez względu na wie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a 5 -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parcie dla współpracy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spiera dialog młodzieży z osobami odpowiedzialnymi za kreowanie polityki młodzieżowej w Europie oraz europejską współpracę w zakresie problematyki i działań młodzieżowych.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kłada się z trzech podakcj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1 –  Spotkania młodzieży i osób odpowiedzialnych za politykę młodzieżow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2 –  Wsparcie działań mających pogłębić zrozumienie problematyki i działań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łodzieżowych oraz wiedzę w tym zakres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3 –  Współpraca z organizacjami międzynarodow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a</cp:lastModifiedBy>
  <dcterms:modified xsi:type="dcterms:W3CDTF">2007-12-06T07:10:29Z</dcterms:modified>
  <cp:revision>2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257942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