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66A9-F830-497D-9EB3-98CA1E616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D84A-7C43-4C4F-86AD-490FC675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8408-4404-49A8-9B0F-1A3F50B0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B609-EEF3-4C4E-9FEA-F819F829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97D2-A26E-4AF0-84CE-43F65372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9C1A2-96A8-4076-A8F6-6F1F9109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924F-AEC6-48AA-B8B1-EDBA05F1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F1F6-8464-47F9-9D1C-24552A66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B516-0F30-42B5-9282-5E9C03B6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0407-8D0A-40DE-A028-7852E42B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2B83-21CD-4379-8538-209DA2A9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1367-57CD-4636-80D0-401FEE56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EF8D-CEE7-4EA8-A5AA-BFA4C22F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9C31-1FC4-4010-A52D-1A5B8EF3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B378-9CE0-452F-81CB-D37F5B4A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80DD2-61B3-405D-8190-0D46B273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1185-539F-435C-A604-677FDA14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BD9D-73C4-42A7-904A-CB8B1AC4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8BBA-F7F5-44DF-B2E9-62B13998A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679-A373-4FE5-AAB6-2F14B5A8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4298-F100-4A5E-A493-964B4A11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FF03-1626-432F-B6DF-5D18A1F4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A90C-556A-4095-A65E-9A76E59F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3E6F-4745-447E-8849-D64AEA03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B5E9-27F0-4478-9DC9-EBB6AAD882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F0FE-4C99-4EBC-95B6-A69666E304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76471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Programy edukacyjne</a:t>
            </a:r>
            <a:br>
              <a:rPr sz="4000"/>
            </a:b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Unii Europejskiej 2007-201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780000" y="3284640"/>
            <a:ext cx="5364000" cy="235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ele programu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ozwijanie wiedzy o różnorodności kultur i języków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uropejskich oraz zrozumienia jej wartości wśród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łodzieży i kadry nauczycielski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maganie młodym ludziom w nabyciu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dstawowych umiejętności i kompetencji życiowych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iezbędnych dla rozwoju osobistego, przyszłeg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zatrudnienia 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tywnego obywatelstw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uropejski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Program Comenius jest skierowany 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uczniów korzystających z edukacji szkolnej do końca szkoły średniej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zkół określonych przez państwa członkowskie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nauczycieli i pozostałego personelu tych szkół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towarzyszeń, organizacji non profit, organizacji pozarządowych i przedstawicieli podmiotów związanych z oświatą szkolną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osób oraz podmiotów odpowiedzialnych za organizację i realizację oświaty i edukację na poziomie lokalnym, regionalnym i krajowym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odmiotów oferujących usługi w zakresie doradztwa zawodowego i poradnictwa, związane z jakimkolwiek aspektem uczenia się przez całe życi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kcje zdecentralizowane Comeniusa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zarządzane przez Narodową Agencję Programu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tnerskie projekty szkół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elostronn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ustron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ursy doskonalenia zawodoweg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la kadry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dukacyjn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systentura Comeniu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1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artnerskie projekty szkół – priorytety narodow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1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na 2008 ro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1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17400" indent="-603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Wspieranie działań w zakresie wychowania przedszkolneg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7400" indent="-603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większenie liczby projektów w szkołach, w których uczą się dzieci młodzież ze specjalnymi potrzebami edukacyjnymi (szkoły integracyjne, specjalne, szkoły przy ośrodkach szkolno-wychowawczych i socjoterapeutycznych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7400" indent="-603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romowanie szkół z województw o najmniejszej liczbie dotychczas zrealizowanych projektó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artnerskie projekty szkół – informacje ogól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Czas trwania projektu – 2 lata (2008 – 201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rmin składania wniosków – 16 lutego 2008 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wota dofinansowania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jektu jes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kwotą ryczałtow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określana na podstawie ilości wyjazdów zagraniczn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wota dofinansowania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jest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ypłacona transzach- I rata w wysokości 80%, II rata (20%)  po złożeniu i zatwierdzeniu przez Narodową Agencję końcowego raportu merytoryczneg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Kto może uczestniczyć w Partnerskich Projektach Szkół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Szkoły publiczne i niepubliczne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funkcjonujące w systemie oświaty (art. 2 ustawy o systemie oświaty), gdzie realizowany jest obowiązek przedszkolny, szkolny oraz obowiązek nauki tj.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Przedszkola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– w tym z oddziałami integracyjnymi oraz przedszkola specjal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Szkoły podstawowe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– w tym: specjalne, integracyjne, z oddziałami integracyjnymi i sportowymi, sportowe i mistrzostwa sportowe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Gimnazja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– w tym: specjalne, integracyjne, z oddziałami integracyjnymi, dwujęzycznymi, sportowymi i przysposabiającymi do pracy, sportowe i mistrzostwa sportowe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Szkoły ponadgimnazjalne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dla młodzieży – zasadnicze szkoły zawodowe, licea ogólnokształcące, licea profilowane, technika – w tym: specjalne, integracyjne, z oddziałami integracyjnymi, dwujęzycznymi i sportowymi, sportowe i mistrzostwa sportowe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Artystyczne I i II stopnia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- realizujące kształcenie ogólnokształcące łącznie z kształceniem artystyczny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1989000"/>
            <a:ext cx="45864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artnerskie projekty szkó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2112600">
            <a:off x="3779640" y="2565360"/>
            <a:ext cx="485640" cy="719280"/>
          </a:xfrm>
          <a:prstGeom prst="downArrow">
            <a:avLst>
              <a:gd name="adj1" fmla="val 50000"/>
              <a:gd name="adj2" fmla="val 37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9420200">
            <a:off x="5292720" y="2565000"/>
            <a:ext cx="485640" cy="692280"/>
          </a:xfrm>
          <a:prstGeom prst="downArrow">
            <a:avLst>
              <a:gd name="adj1" fmla="val 50000"/>
              <a:gd name="adj2" fmla="val 35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3429000"/>
            <a:ext cx="3816360" cy="30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Projekty dwustr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dwie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lacówki edukacyjne z dwóch różnych kraj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el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– głównie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mowanie nauki języków obc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 najmniej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jedna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wymian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uczni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max.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budżet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lub 20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tysięcy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03640" y="3429000"/>
            <a:ext cx="3961080" cy="30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rojekty wielostro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inimum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rzy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placówki z minimum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rzech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różnych kraj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rojekt może obejmować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współpracę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uczniów lub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kadr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pedagogiczn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ej w zakresie m.in.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zarządzani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szkołą; metodyk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; zagadnień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wychowawczy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ch;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filaktyk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max.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budżet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8 lub 20 tysięcy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Kursy doskonalenia zawodowego – dofinansowanie kr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po kroku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Wybór kursu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Rezerwacja miejsca u organizatora (bez opłaty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Wypełnienie formularza aplikacyjneg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rzesłanie zgodnie z harmonogramem zgłoszeń, do Narodowej Agencji następujących dokumentów: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formularz aplikacyjny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(dwa egzemplarze w języku polskim),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zaświadczenie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o wstępnej rezerwacji miejsca na kursie od jego organizatora,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rekomendacja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od dyrektora szkoły w języku polskim,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program kursu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formularz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„Informacje o wnioskodawcy i wybranym kursie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Każdy kandydat zostanie powiadomiony listownie o akceptacji lub odrzuceniu wniosk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o powrocie należy rozliczyć się z grantu zgodnie z zasadami określonymi w umowi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Kto może uczestniczyć w kursach doskonalenia zawodoweg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uczyciele (uwzględniając nauczanie przedszkolne i zawodow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yrektorzy szkó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acownicy oświatowej komórki organu prowadzącego szkoł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izytatorzy lub osoby wykonujące zadania w zakresie nadzo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edagogiczn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oradcy zawodow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uczyciele/pracownicy pracujący z dziećmi zagrożonym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rginalizacją społeczn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Zasady obliczania i rozliczania grant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ahoma"/>
              </a:rPr>
              <a:t>Grant składa się z trzech części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kwoty przeznaczonej na pokrycie kosztów podróży z miejsca zamieszkania do miejsca kursu i z powrotem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kwoty przeznaczonej na opłatę szkolenia/kursu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kwoty przeznaczonej na utrzymanie (zakwaterowanie, wyżywienie i przejazdy lokalne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ahoma"/>
              </a:rPr>
              <a:t>80% grantu wypłacane jest uczestnikowi przed rozpoczęciem kursu pozostałe 20% po rozliczeniu udziału w kursie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7936200" cy="24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Program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UCZENIE SIĘ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PRZEZ CAŁE ŻYCIE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2007 – 201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fund-lifelong" descr=""/>
          <p:cNvPicPr/>
          <p:nvPr/>
        </p:nvPicPr>
        <p:blipFill>
          <a:blip r:embed="rId1"/>
          <a:stretch/>
        </p:blipFill>
        <p:spPr>
          <a:xfrm>
            <a:off x="3714840" y="3789360"/>
            <a:ext cx="44575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5640" y="1916280"/>
            <a:ext cx="763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Harmonogram składania wniosków 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dofinansowanie kursó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00000" y="3068640"/>
          <a:ext cx="7479000" cy="2448000"/>
        </p:xfrm>
        <a:graphic>
          <a:graphicData uri="http://schemas.openxmlformats.org/drawingml/2006/table">
            <a:tbl>
              <a:tblPr/>
              <a:tblGrid>
                <a:gridCol w="3882960"/>
                <a:gridCol w="359604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złożenia formular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rozpoczęcia kurs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-31 stycznia 20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kwietnia - 30 czerw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utego - 31 mar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pca - 30 wrześn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kwietnia - 30 czerw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października - 31 grudn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lipca - 30 wrześn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stycznia - 31 marca 200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8920" y="2017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Kto może uczestniczyć w Asystenturze Comenius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zyszli nauczycie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udenci kierunków prowadzących do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zdobycia kwalifikacji w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zawodzie nauczycie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zkoły polskie/uprawnione instytucje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nioskujące o przyjęcie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ystenta Comeniu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o to jest Asystentura Comenius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kcja Programu "Uczenie się przez całe życie" – Asystentura Comeniusa promuje wyjazdy na praktykę pedagogiczno-zawodową (np. Asystenturę językową) trwającą od 3 do 10 miesięcy podczas roku szkolnego. Studenci mogą ubiegać się o wyjazd do zagranicznych szkół uprawnionych do udziału w ww. programi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systenci mogą wyjeżdżać do: Austrii, Belgii, Bułgarii, Czech, Cypru, Danii, Estonii, Finlandii, Francji, Grecji, Hiszpanii, Holandii, Irlandii, Islandii, </a:t>
            </a:r>
            <a:r>
              <a:rPr b="0" lang="pl-PL" sz="1900" spc="-1" strike="noStrike">
                <a:solidFill>
                  <a:srgbClr val="000000"/>
                </a:solidFill>
                <a:latin typeface="Tahoma"/>
              </a:rPr>
              <a:t>Liechtensteinu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, Litwy, Luksemburga, Łotwy, Malty, Niemiec, Norwegii, Portugalii, Rumunii, Słowacji, Słowenii, Szwecji, Turcji, Wielkiej Brytanii, Węgier i Włoch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Akcje centralne COMENIUSA zarządzane przez Agencję Wykonawczą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Europejskie  projekty współpra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jekty współpracy w zakresie szkolenia kadry edukacyjnej realizowane są przez grupy partnerskie, które składają się z uprawnionych organizacji oświatowych wywodzących się z co najmniej trzech uczestniczących w programie „Uczenie się przez całe życie krajów”, przy czym co najmniej jednym z tych krajów musi być Państwo Członkowskie UE. Efektem każdego projektu powinien być konkretny "produkt edukacyjny"- np. Program nauczania, kurs doskonalenia zawodowego dla nauczycieli, opracowanie nowoczesnej metodyki lub strategii nauczani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Sieci Tematycz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jekty wspierające tworzenie sieci projektów o wspólnej lub podobnej tematyce dotyczącej europejskiego wymiaru edukacji szkolnej. Celem sieci jest: pogłębienie i kontynuacja współpracy instytucji oświatowych zaangażowanych w realizację projektów Programu Comenius, stworzenie forum wymiany refleksji i doświadczeń w sferze promowania innowacji I najlepszych praktyk w różnych dziedzinach edukacji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Leonardo da Vinc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eonardo da Vinc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ele programu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sparcie w zdobywaniu wiedzy, umiejętności, doświadcze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kwalifikacji na europejskim rynku pra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spieranie innowacyjnych praktyk zawodowych na poziomie innym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iż poziom szkolnictwa wyższ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oprawa stopnia przejrzystości i uznawalności kwalifikacji oraz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kompetencji w tym nabytych w drodze kształcenia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ozaformaln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uka branżowych języków obcych oraz dziedzictwa kulturowego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aństw europejsk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eonardo da Vinc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łówne obszary działań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taże i wymi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zwiększenie dostępu do edukacji zawodowej i kształcenia ustawiczn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dnoszenie kwalifikacji pracownikó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prawa jakości edukacji zawodowej i kształcenia ustawiczn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spieranie europejskiego wymiaru edukacji zawodowej i kształcenia ustawiczn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ozwój poradnictwa zawodowego i dostępu do informacji zawodow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eonardo da Vinc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jekty mobilnośc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jekty staży dla młodzieży szkolnej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Dofinansowanie do 100 % kosztów uprawnionych (od 2 do 39 tygodn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jekty staży dla osób młodych pracowników i osób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oszukujących pracy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Dofinansowanie do 100 % kosztów uprawnionych (od 2 do 26 tygodn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jekty wymiany doświadczeń dla nauczycieli, szkoleniowców,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oradców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(D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ofinansowanie do 100 % kosztów uprawnionych (od 1 do 6 tygodn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eonardo da Vinc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jekty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artnerskie - priorytety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odniesienie atrakcyjności i jakości kształcenia i szkolenia zawodow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ozwój i wdrażanie wspólnych narzędzi i rozwiązań w dziedzinie kształcenia i szkolenia zawodow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aangażowanie do współpracy wszystkich osób/podmiotów zainteresowanych kształceniem i doskonaleniem zawodowym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w tym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zkół zawodowych i technicznych, ale również przedsiębiorstw, partnerów społecznych, decydentów z zakresu kształcenia i szkolenia zawodowego na szczeblu lokalnym, regionalnym i lub krajowy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eonardo da Vinc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jekty wielostron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jekty transferu innowacji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Dofinansowanie do 75 % kosztów uprawnionych do 2 lat (150 tys. EUR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na r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worzenie innowacji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Dofinansowanie do 75 % kosztów uprawnionych do 2 lat (250 tys. EUR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na r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ieci tematyczne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Dofinansowanie do 75 % kosztów uprawnionych do 3 lat (150 tys. EUR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na rok</a:t>
            </a:r>
            <a:r>
              <a:rPr b="0" i="1" lang="pl-P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odstawowe informacj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felong Learning Programme (LL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= Program Uczenie się przez całe życ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gram Unii Europejskiej w dziedzinie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dukacji (szkolnej, wyższej, zawodowej,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orosłych) i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skonalenia zawodowe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łkowity budżet Programu na lata 2007-2013 wynosi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6,97 mld E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gencja w Polsce: Fundacja Rozwoju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ystemu Edukacji (FR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eonardo da Vinc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Kto może składać wniosek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- szkoły zawodow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- instytucje kształcenia ustawicznego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- firmy szkoleniow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- przedsiębiorstw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- partnerzy społeczni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- podmioty świadczące usługi doradztwa zawodowego i poradnictwa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- organizacje non-prof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- organizacje pozarządow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Leonardo da Vinc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Terminy składania wnioskó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jekty mobilności - 8 lutego 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jekty partnerskie - 15 lutego 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jekty Transferu Innowacji - 14 marca 2008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Grundtvi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Grundtvi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ele program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prawa jakości edukacji dorosłych i rozwój oferty edukacyjnej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la dorosłych poprzez współpracę europejską, w tym mobilność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adry i słuchaczy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dpowiadanie na wyzwania edukacyjne związane ze starzeniem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ię populacji w Europi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Zapewnianie alternatywnych możliwości dostępu do edukacj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sobom dorosłym z defaworyzowanych grup społecznych oraz tym,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tóre nie uzyskał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dstawowego wykształcenia formalneg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Grundtvi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42920" y="2060280"/>
            <a:ext cx="791208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Kto może uczestniczyć w programie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UNDTVIG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Każda organizacja działająca w obszarze edukacji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sób dorosł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soby dorosł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 Programie Grundtvi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osoby od 25 roku ży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osoby w wieku 16-24 lata, które zakończyły alb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zerwał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ształcenie formalne lub korzystają z oferty edukacyjnej dl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orosł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Grundtvi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matyka programu GRUNDTVI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dstawowe umiejętnośc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ktywne obywatels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ęzyki ob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środowisko i zrównoważony rozwó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ztuka i kultu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zdrowie i zagadnienia konsumenck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dukacja rodzicó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dukacja w więzieni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Grundtvi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58920" y="1989000"/>
            <a:ext cx="7696080" cy="41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Przykładowe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Działania programu GRUNDTVIG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rojekty Wielostronne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(projekty na dużą skalę, służące opracowaniu innowacyjnych produktów edukacyjny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Projekty Partnerskie Grundtviga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ich celem jest rozszerzenie współpracy europejskiej pomiędzy mniejszymi organizacjami, mniej doświadczonymi we współpracy międzynarodowej, zajmującymi się edukacją dorosły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Indywidualne wyjazdy szkoleniow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(In-service Training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rants for Staff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Sieci Grundtvig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Grundtvi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Terminy składania wnioskó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jekty mobilności - 31 stycznia 2008 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ojekty partnerskie - 15 lutego 2008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ojekty wielostronn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sieci -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9 lutego 2008 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gramy horyzontal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gram międzysektorow</a:t>
            </a: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91208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4 kluczowe działan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spółpracę strategiczną i innowacje w dziedzinie uczenia się przez całe życie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pagowanie nauki języków obcych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ozwijanie innowacyjnych treści, usług, metodologii uczenia i praktyk opartych na TIK na potrzeby uczenia się przez całe życie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powszechnianie i wykorzystywanie wyników działań wspieranych w ramach programu oraz poprzednich programów związanych z tą dziedziną, jak również wymianę dobrych prakty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Kraje Program</a:t>
            </a: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7 krajów członkowskich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Unii Europejskie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raje stowarzysz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EFTA/EOG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(Islandia,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chtenstein i Norwegi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raj kandydujący -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urc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 przyszłości będzie możliwość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czestnictw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zwajcar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krajów Zachodnich Bałkanó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gram Jean Monne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ele programu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ymulowanie nauczania, badań i debat w dziedzinie studiów nad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egracją europejsk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spieranie istnienia odpowiedniego kręgu instytucji i stowarzyszeń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zajmujących się kwestiami integracji europejskiej oraz edukacji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 szkoleń w perspektywie europejskie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gram Jean Monne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Kto może uczestniczyć w programie JEAN MONNE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tudenci i badacze w dziedzinie integracji europejskiej we wszystkich rodzajach szkół i poza ni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Nauczyciele i pozostały personel tych instytuc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towarzyszenia i przedstawiciele osób związanych z edukacją oraz szkoleniami we Wspólnocie i poza ni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odmioty publiczne i prywatne odpowiedzialne za organizacj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i realizację edukacji i szkoleń na poziomie lokalnym, regionalnym i krajowy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Ośrodki badawcze i podmioty zajmujące się kwestiami integracji europejskiej we Wspólnocie i poza ni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gramy horyzontaln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Terminy składania wniosków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ogram Jean Monnet - 15 lutego 2008 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ogram międzysektorowy - 31 marca 2008 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Kontak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Fundacja Rozwoju Systemu Edukacj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rodowa Agencja Program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czenie się przez całe życi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l. Mokotowska 43, 00-551 Warsza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l: 022 622-37-12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fax: 022 622-37-10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e-mail: llp@frse.org.p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ww.llp.org.p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ww.frse.org.pl/llp/n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76471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Program MŁODZIEŻ W DZIAŁANIU</a:t>
            </a:r>
            <a:br>
              <a:rPr sz="3600"/>
            </a:b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2007 – 2013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635280" y="3500280"/>
            <a:ext cx="496908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odstawowe informacje (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ogram Młodzież w Działaniu czerpie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z doświadczeń poprzednich programów „Młodzież dla Europy” (1989 -1999), Wolontariat Europejski oraz Programu MŁODZIEŻ (2000-200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kupia się na kształceniu nieformalnym w wymiarze europejski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Całkowity budżet Programu na lata 2007-2013 wynosi 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885 mln E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gencja w Polsce: Fundacja Rozwoju Systemu Edukacji (FR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odstawowe informacje (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ioskodawca musi być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rganizacją typu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on-prof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jekty mają charakter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iekomercyj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Wkład własny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iezbędny w większości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jektó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czestnictwo kraju z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Unii Europejskie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ak podwójnego finansowa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Cele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wanie aktywnego obywatelstwa młodych ludzi,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w szczególności ich obywatelstwa europejskiego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ozwijanie solidarności i promowanie tolerancji wśród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łodych ludzi, zwłaszcza w celu kształtowania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ójności społecznej w Unii Europejskiej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dowanie wzajemnego zrozumienia młodych ludzi z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óżnych krajów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zyczynianie się do zwiększania jakości systemó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sparcia dla aktywności młodzieży i organizacji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ziałających 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ołeczeństwie obywatelskim 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akresie związanym ze sprawami młodzież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wanie współpracy europejskiej w dziedzinie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blematyki młodzież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iorytety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15640" y="2060280"/>
            <a:ext cx="7839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bywatelstwo europejski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czestnictwo młodych ludzi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większanie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działu ludzi młodych w życiu ich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ołeczności lokalnej;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większanie uczestnictwa ludzi młodych 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ystemie demokracji przedstawicielskiej;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większanie wsparcia dla różnych form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zenia się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czestnictwa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óżnorodność kulturow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łączanie młodzieży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d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aworyzowanej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Struktura Programu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ziałanie 1 – Młodzież dla Euro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ziałanie 2 – Wolontariat 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e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uropejsk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ziałanie 3 – Młodzi w świec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ziałanie 4 – Systemy wspierania młodzież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Działanie 5 – Wsparcie dla współpracy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europejskiej w dziedzinie problematyki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łodzież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Struktura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001"/>
              </a:spcBef>
              <a:spcAft>
                <a:spcPts val="4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Programy sektorow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COMENIUS – edukacja szkoln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ERASMUS – szkolnictwo wyższ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LEONARDO DA VINCI – kształcenie i szkolenie zawodow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GRUNDTVIG – edukacja dorosły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Uczestni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łode osoby między 13 a 30 rokiem życia,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tóre są obywatelami jednego z krajów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gramu lub kraju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rtnerskie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ne podmioty aktywnie działające na polu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praw młodzieży i edukacji nieformalne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214200"/>
            <a:ext cx="8043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Kraje Programu i kraje </a:t>
            </a:r>
            <a:r>
              <a:rPr b="0" lang="pl-PL" sz="4000" spc="-1" strike="noStrike">
                <a:solidFill>
                  <a:srgbClr val="33339b"/>
                </a:solidFill>
                <a:latin typeface="Tahoma"/>
              </a:rPr>
              <a:t>p</a:t>
            </a: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artnerski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raje Program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ństwa członkowskie Unii Europejski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ństwa członkowskie EFTA/E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urc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raje partnerski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ąsiadujące kraje partnersk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ne kraje partnerskie świata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*Współpraca z krajami partnerskimi, które podpisały porozumien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ze Wspólnotą Europejsk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00000" y="214200"/>
            <a:ext cx="8043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pl-PL" sz="4000" spc="-1" strike="noStrike">
                <a:solidFill>
                  <a:srgbClr val="33339b"/>
                </a:solidFill>
                <a:latin typeface="Tahoma"/>
              </a:rPr>
              <a:t>Akcja 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Akcja 1.1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Wymiany młodzieży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- dwustronne, trójstronne i wielostronne spotkania grup młodzieży z krajów uczestniczących w programi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Akcja 1.2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icjatywy Młodzieżowe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kłada się z dwóch niezależnych części: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· Inicjatyw Kajowych – kilkumiesięcznych przedsięwzięć młodzieży o charakterze lokalnym  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· Inicjatyw Międzynarodowych - działań realizowanych lokalnie przez grupy młodzieży z minimum dwóch krajów uczestniczących w Programie Młodzież w Działaniu.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Akcja 1.3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Młodzież w Demokracji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zachę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młodzież do bardziej aktywnego udziału w życiu swych społeczności na poziomie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kalnym, regionalnym, ogólnokrajowym bądź na poziomie międzynarodowy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3600"/>
            </a:b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Terminy składania wniosków – kraj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58920" y="2349000"/>
            <a:ext cx="7696080" cy="37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87280" y="2060640"/>
          <a:ext cx="6913800" cy="4172040"/>
        </p:xfrm>
        <a:graphic>
          <a:graphicData uri="http://schemas.openxmlformats.org/drawingml/2006/table">
            <a:tbl>
              <a:tblPr/>
              <a:tblGrid>
                <a:gridCol w="3457800"/>
                <a:gridCol w="34560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składania wnio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rozpoczęcia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ut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maja – 30 wrześ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kwiet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pca – 30 listop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czerw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września – 31 stycz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wrześ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grudnia – 30 kwiet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stop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utego – 31 lip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3600"/>
            </a:b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Terminy składania wniosków – Europ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182600" y="2017800"/>
          <a:ext cx="7772400" cy="41194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składania wnios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rozpoczęcia proje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ute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pca – 30 listop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czerw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stopada – 31 mar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wrześ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stycznia – 31 lip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Kontak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Fundacja Rozwoju Systemu Edukacj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rodowa Agencja Program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czenie się przez całe życi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l. Mokotowska 43, 00-551 Warszawa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l: 022 622-37-06; 022 628 60 14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fax: 022 622-37-08; 022 628 60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-mail: mlodziez@mlodziez.org.p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ttp://www.mlodziez.org.pl/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000" y="214200"/>
            <a:ext cx="8259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3200"/>
            </a:br>
            <a:r>
              <a:rPr b="0" lang="en-GB" sz="3200" spc="-1" strike="noStrike">
                <a:solidFill>
                  <a:srgbClr val="33339b"/>
                </a:solidFill>
                <a:latin typeface="Tahoma"/>
              </a:rPr>
              <a:t>Ośrodek Regionalny Programu w Krakowi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Ośrodek Regionalny Programu działa w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Centru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Młodzieży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im. Henryka Jordan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ul. Basztowa 5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31-134 Krakó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tel: 12/422 52 44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fax: 12/429 65 69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e-mail: youthcm@bci.krakow.p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koordynator: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Krystyna Marcinkows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akres działania: działalność informacyjna oraz prowadzen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konsultac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rogram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fund-europa_obywateli" descr=""/>
          <p:cNvPicPr/>
          <p:nvPr/>
        </p:nvPicPr>
        <p:blipFill>
          <a:blip r:embed="rId1"/>
          <a:stretch/>
        </p:blipFill>
        <p:spPr>
          <a:xfrm>
            <a:off x="3851280" y="2344680"/>
            <a:ext cx="496872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Cel program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gram Europa dla obywateli ma na celu promowanie aktywnego obywatelstwa europejskiego w okresie od 2007 do 2013 rok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gólnym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celem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jest aktywne zaangażowanie obywateli w życie publiczne oraz proces integracji europejskiej i rozwijania ich poczucia przynależności do Europy. Inicjatywa ma przyczyniać się do poprawy wzajemnego zrozumienia między Europejczykami oraz rozwoju dialogu międzykulturoweg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Beneficjenc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rajami uczestniczącymi są Państwa Członkowskie UE, kraje EFTA, które są stronami Porozumienia EOG, kraje kandydujące, które korzystają ze strategii przedakcesyjnej oraz kraje Bałkanów Zachodnich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gram, stawiając w centrum obywatela, skierowany jest do wszystkich zainteresowanych stron promujących ideę społeczeństwa europejskiego, przede wszystkim do organizacji pozarządowych, stowarzyszeń, związków zawodowych, społeczności lokalnych oraz instytutów badających europejską politykę publiczną (think tanks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Struktura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001"/>
              </a:spcBef>
              <a:spcAft>
                <a:spcPts val="4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Programy horyzontalne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PROGRAM MIĘDZYSEKTOROWY</a:t>
            </a: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 – upowszechnianie dobrych praktyk i współpraca w dziedzinie uczenia się przez całe życi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Program JEAN MONNET</a:t>
            </a: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 – badania i nowe metody nauczania o integracji europejskiej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Działan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kala i zakres projektów będą zależały od sytuacji społecznej, będą to między innymi: konferencje, seminaria, szkolenia, debaty ekspertów, publikacje, imprezy kulturalne, sondaże, i inn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Budżet programu na lata 2007-2013 wynosi 215 milionów EUR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Działan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Działania te zostały podzielone na 4 grupy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Tahoma"/>
              </a:rPr>
              <a:t>Działanie 1: Aktywni obywatele dla Europy (47% budżetu)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Tahoma"/>
              </a:rPr>
              <a:t>Działanie 2: Aktywne społeczeństwo obywatelskie w Europie (29% budżetu)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Strukturalne wsparcie dla organizacji badających europejską politykę publiczną (think tanks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Strukturalne wsparcie dla organizacji społeczeństwa obywatelskiego na poziomie europejskim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sparcie dla projektów inicjowanych przez organizacje społeczeństwa obywatelskieg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Tahoma"/>
              </a:rPr>
              <a:t>Działanie 3: Razem dla Europy (10% budżetu)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ydarzenia medialn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Tahoma"/>
              </a:rPr>
              <a:t>Działanie 4 (około 4% budżetu)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Działania związane z upamiętnianiem miejsc, archiwów i ofiar deportacji reżimu nazistowskiego i stalinowskieg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 Kontak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unkt Kontaktowy ds. Kultur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Departamencie Strategii Kultury i Fundusz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Europejskich Ministerstwa Kultury i Dziedzict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rodow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l. Krakowskie Przedmieście 15/17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00-071 Warszaw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l./faks: 022 828 37 9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e-mail: pkk.kultura@mkidn.gov.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ww.mkidn.gov.pl/pkk/fundusze1.ph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b"/>
                </a:solidFill>
                <a:latin typeface="Tahoma"/>
              </a:rPr>
              <a:t>Dziękuję za uwag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Organizacja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259740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Decyz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E i Rad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ustanawiają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rogram działań 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lata 2007-20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2133720"/>
            <a:ext cx="208764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Zaproszenie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do składania wniosków na rok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0720" y="2133720"/>
            <a:ext cx="237492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rzewodnik</a:t>
            </a: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 strona internetowa Agencji krajowej lub Agencji wykonawcz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4508640"/>
            <a:ext cx="208944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zasady ogólne, cele i prioryt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4508640"/>
            <a:ext cx="273528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część merytoryczna i administracyjno-finansowa – szczegółowe priorytety, przykładowe projekty, główne term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16720" y="4508640"/>
            <a:ext cx="208908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nformacje  szczegółowe: merytoryczne, techniczne, formularze wniosków i um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393372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393372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80360" y="393372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Wymagania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arunki ogólne otrzymania dofinansowan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godność z celami i priorytetami program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pełnienie wymagań formalnych określonych odrębnie dla każdego programu sektorowego i horyzontalneg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łożenie wniosku w określonym terminie, na właściwym formularzu i do właściwej instytucji zarządzającej program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pełnienie warunku minimalnego i maksymalnego okresu trwania projektu oraz minimalnej wymaganej liczby partnerów i krajó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menius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amK</cp:lastModifiedBy>
  <dcterms:modified xsi:type="dcterms:W3CDTF">2007-12-06T05:43:40Z</dcterms:modified>
  <cp:revision>1</cp:revision>
  <dc:subject/>
  <dc:title>   Programy edukacyjne Unii Europejskiej 2007-201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39650488</vt:r8>
  </property>
  <property fmtid="{D5CDD505-2E9C-101B-9397-08002B2CF9AE}" pid="3" name="_AuthorEmail">
    <vt:lpwstr>siekieew@ws_nt7.umk</vt:lpwstr>
  </property>
  <property fmtid="{D5CDD505-2E9C-101B-9397-08002B2CF9AE}" pid="4" name="_AuthorEmailDisplayName">
    <vt:lpwstr>Siekierzyńska Ewa</vt:lpwstr>
  </property>
  <property fmtid="{D5CDD505-2E9C-101B-9397-08002B2CF9AE}" pid="5" name="_EmailSubject">
    <vt:lpwstr>materiały na portal</vt:lpwstr>
  </property>
</Properties>
</file>