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704-89E6-42FD-B77F-FE3DC6FE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FAD-045E-47DF-9173-9A2B4E8F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A00-C1E7-4404-923F-1826FD5E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2F3-F788-446A-8239-508C80A9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A021-A274-4AAA-B9BF-25CD7F78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0E18-8C2E-49C7-BD65-D4575444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543C-2FE4-4E2D-9741-CE804524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73CE-C7BF-4286-A1AC-FE638EF5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24A8-70FA-46B7-A97B-AC3D7359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BA0D-C56F-463A-8FA0-259788EC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4C8A-0866-48AF-ACA6-805C6908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EDD-9D45-494F-8232-78C235C7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A887-7A37-4DDC-ADEC-9E01048A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7259-FF02-4205-8DEA-AEC96149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DA8F-4F36-49D5-B484-61977E31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399B-21C9-4493-91D2-552471C6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2103-A42F-42FE-8F37-370B527E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CB0-C70B-43D4-84FA-2B93D75B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A3E-0177-4B52-965B-F5F84C3F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646-3191-4E64-9F64-B1AD4032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A6D-BB56-4FBD-947C-739D61B1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985-739F-4442-ADA9-86A0C466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ACE-8C66-40C2-A4C7-2A8AC836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ECE-7396-4F85-815F-DE051A73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70EC-0DA5-4F2A-9653-000F86FEB8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B72E-59C3-4353-BE30-E3B9CFD39F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rr.gov.pl/" TargetMode="External"/><Relationship Id="rId2" Type="http://schemas.openxmlformats.org/officeDocument/2006/relationships/hyperlink" Target="http://www.funduszestrukturalne.gov.pl/" TargetMode="External"/><Relationship Id="rId3" Type="http://schemas.openxmlformats.org/officeDocument/2006/relationships/hyperlink" Target="http://www.efs.gov.pl/" TargetMode="External"/><Relationship Id="rId4" Type="http://schemas.openxmlformats.org/officeDocument/2006/relationships/hyperlink" Target="http://www.malopolskie.pl/" TargetMode="External"/><Relationship Id="rId5" Type="http://schemas.openxmlformats.org/officeDocument/2006/relationships/hyperlink" Target="http://www.fundusze.malopolska.pl/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PROGRAM OPERACYJNY KAPITAŁ LUDZKI 2007-2013</a:t>
            </a:r>
            <a:br>
              <a:rPr sz="44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uro Funduszy Europejsk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zędu Miasta Krak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3084480" cy="1461960"/>
        </p:xfrm>
        <a:graphic>
          <a:graphicData uri="http://schemas.openxmlformats.org/drawingml/2006/table">
            <a:tbl>
              <a:tblPr/>
              <a:tblGrid>
                <a:gridCol w="30844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9360" y="9360"/>
          <a:ext cx="163800" cy="446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9360" y="455760"/>
          <a:ext cx="3065760" cy="996840"/>
        </p:xfrm>
        <a:graphic>
          <a:graphicData uri="http://schemas.openxmlformats.org/drawingml/2006/table">
            <a:tbl>
              <a:tblPr/>
              <a:tblGrid>
                <a:gridCol w="216000"/>
                <a:gridCol w="2633760"/>
                <a:gridCol w="216000"/>
              </a:tblGrid>
              <a:tr h="349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90440" y="819000"/>
          <a:ext cx="2813040" cy="463680"/>
        </p:xfrm>
        <a:graphic>
          <a:graphicData uri="http://schemas.openxmlformats.org/drawingml/2006/table">
            <a:tbl>
              <a:tblPr/>
              <a:tblGrid>
                <a:gridCol w="28130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5240" y="500040"/>
            <a:ext cx="9360" cy="9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0080" y="1136520"/>
            <a:ext cx="95040" cy="9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16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rama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ponentu centralne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środki zostaną przeznaczone przede wszystkim na wsparcie efektywności struktur i systemów instytucjonalny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omiast środk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ponentu regionalne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ostaną w głównej mierze przeznaczone na wsparcie dla osób i grup społeczny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6080" y="189000"/>
            <a:ext cx="767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ruktura program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647720"/>
            <a:ext cx="539640" cy="26337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centr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4437000"/>
            <a:ext cx="563400" cy="2220840"/>
          </a:xfrm>
          <a:prstGeom prst="flowChartProcess">
            <a:avLst/>
          </a:prstGeom>
          <a:solidFill>
            <a:srgbClr val="cc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regi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87440" y="1647720"/>
            <a:ext cx="7443360" cy="381240"/>
            <a:chOff x="1387440" y="1647720"/>
            <a:chExt cx="7443360" cy="381240"/>
          </a:xfrm>
        </p:grpSpPr>
        <p:sp>
          <p:nvSpPr>
            <p:cNvPr id="129" name=""/>
            <p:cNvSpPr/>
            <p:nvPr/>
          </p:nvSpPr>
          <p:spPr>
            <a:xfrm>
              <a:off x="1918080" y="1647720"/>
              <a:ext cx="6912720" cy="360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atrudnienie i integracja społecz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87440" y="1647720"/>
              <a:ext cx="455040" cy="3812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387440" y="2104920"/>
            <a:ext cx="7443360" cy="576360"/>
            <a:chOff x="1387440" y="2104920"/>
            <a:chExt cx="7443360" cy="576360"/>
          </a:xfrm>
        </p:grpSpPr>
        <p:sp>
          <p:nvSpPr>
            <p:cNvPr id="132" name=""/>
            <p:cNvSpPr/>
            <p:nvPr/>
          </p:nvSpPr>
          <p:spPr>
            <a:xfrm>
              <a:off x="1918080" y="2104920"/>
              <a:ext cx="6912720" cy="576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zwój zasobów ludzkich i potencjału adaptacyjnego przedsiębiorstw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raz poprawa stanu zdrowia osób pracując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87440" y="2104920"/>
              <a:ext cx="455040" cy="576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87440" y="2790720"/>
            <a:ext cx="7443360" cy="381240"/>
            <a:chOff x="1387440" y="2790720"/>
            <a:chExt cx="7443360" cy="381240"/>
          </a:xfrm>
        </p:grpSpPr>
        <p:sp>
          <p:nvSpPr>
            <p:cNvPr id="135" name=""/>
            <p:cNvSpPr/>
            <p:nvPr/>
          </p:nvSpPr>
          <p:spPr>
            <a:xfrm>
              <a:off x="1918080" y="2790720"/>
              <a:ext cx="6912720" cy="35892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ysoka jakość eduk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7440" y="2790720"/>
              <a:ext cx="455040" cy="38124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387440" y="3781440"/>
            <a:ext cx="7443360" cy="456840"/>
            <a:chOff x="1387440" y="3781440"/>
            <a:chExt cx="7443360" cy="456840"/>
          </a:xfrm>
        </p:grpSpPr>
        <p:sp>
          <p:nvSpPr>
            <p:cNvPr id="138" name=""/>
            <p:cNvSpPr/>
            <p:nvPr/>
          </p:nvSpPr>
          <p:spPr>
            <a:xfrm>
              <a:off x="1918080" y="3781440"/>
              <a:ext cx="6912720" cy="43020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bre rządze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87440" y="3781440"/>
              <a:ext cx="455040" cy="4568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387440" y="4459320"/>
            <a:ext cx="7443360" cy="533520"/>
            <a:chOff x="1387440" y="4459320"/>
            <a:chExt cx="7443360" cy="533520"/>
          </a:xfrm>
        </p:grpSpPr>
        <p:sp>
          <p:nvSpPr>
            <p:cNvPr id="141" name=""/>
            <p:cNvSpPr/>
            <p:nvPr/>
          </p:nvSpPr>
          <p:spPr>
            <a:xfrm>
              <a:off x="1918080" y="4459320"/>
              <a:ext cx="6912720" cy="5335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ynek pracy otwarty dla wszystk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87440" y="4459320"/>
              <a:ext cx="455040" cy="5335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387440" y="5068800"/>
            <a:ext cx="7443360" cy="436320"/>
            <a:chOff x="1387440" y="5068800"/>
            <a:chExt cx="7443360" cy="436320"/>
          </a:xfrm>
        </p:grpSpPr>
        <p:sp>
          <p:nvSpPr>
            <p:cNvPr id="144" name=""/>
            <p:cNvSpPr/>
            <p:nvPr/>
          </p:nvSpPr>
          <p:spPr>
            <a:xfrm>
              <a:off x="1918080" y="5068800"/>
              <a:ext cx="6912720" cy="4363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mocja integracji społecznej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87440" y="5068800"/>
              <a:ext cx="455040" cy="4363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387440" y="5602320"/>
            <a:ext cx="7443360" cy="456840"/>
            <a:chOff x="1387440" y="5602320"/>
            <a:chExt cx="7443360" cy="456840"/>
          </a:xfrm>
        </p:grpSpPr>
        <p:sp>
          <p:nvSpPr>
            <p:cNvPr id="147" name=""/>
            <p:cNvSpPr/>
            <p:nvPr/>
          </p:nvSpPr>
          <p:spPr>
            <a:xfrm>
              <a:off x="1918080" y="5602320"/>
              <a:ext cx="6912720" cy="45684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gionalne kadry gospodar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87440" y="5602320"/>
              <a:ext cx="455040" cy="45684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387440" y="3247920"/>
            <a:ext cx="7443360" cy="456840"/>
            <a:chOff x="1387440" y="3247920"/>
            <a:chExt cx="7443360" cy="456840"/>
          </a:xfrm>
        </p:grpSpPr>
        <p:sp>
          <p:nvSpPr>
            <p:cNvPr id="150" name=""/>
            <p:cNvSpPr/>
            <p:nvPr/>
          </p:nvSpPr>
          <p:spPr>
            <a:xfrm>
              <a:off x="1918080" y="3247920"/>
              <a:ext cx="6912720" cy="43020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zkolnictwo wyższe i  nau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87440" y="3247920"/>
              <a:ext cx="455040" cy="4568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387440" y="6135840"/>
            <a:ext cx="7443360" cy="532800"/>
            <a:chOff x="1387440" y="6135840"/>
            <a:chExt cx="7443360" cy="532800"/>
          </a:xfrm>
        </p:grpSpPr>
        <p:sp>
          <p:nvSpPr>
            <p:cNvPr id="153" name=""/>
            <p:cNvSpPr/>
            <p:nvPr/>
          </p:nvSpPr>
          <p:spPr>
            <a:xfrm>
              <a:off x="1918080" y="6135840"/>
              <a:ext cx="6912720" cy="53280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zwój wykształcenia i kompetencji w regiona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87440" y="6135840"/>
              <a:ext cx="455040" cy="53280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MPONENT CENTRAL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IORYTET III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YSOKA JAKO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ŚĆ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SYSTEMU O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Ś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ATY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ziała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Modernizacja systemu zarządzania i nadzoru w oświa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 Rozwój systemu egzaminów zewnętrz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 Poprawa jakości kształc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 Otwartość systemu edukacji w kontekście uczenia się przez całe ży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działanie 3.3.2 Efektywny system kształcenia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 doskonalenia nauczycieli -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ojekty konkursowe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koły i placówki oświat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ja oświa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y prowadzące szkoły i placów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ratoria oświaty i inne instytucje realizujące nadzór pedag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two Edukacji Nar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 można realizować (typy projek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ygotowanie wybranych szkół do realizacji praktyk przez studentów przygotowywanych do wykonywania zawodu nauczyc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uchomienie nowego typu studiów wyższych i podyplomowych przygotowujących do wykonywania zawodu nauczyc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Poddziałanie 3.3.4 Modernizacja treści i metod kształcenia – projekty konkursowe</a:t>
            </a:r>
            <a:br>
              <a:rPr sz="38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czniow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czyciele i doradcy zawodow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ytucje oświatowe prowadzące doradztwo edukacyjno-zawod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koły i placówki oświatowe oraz ich organy prowadzą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uratoria oświ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można realizować (typy projekt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acowanie i pilotażowe wdrożenie innowacyjnych programów, materiałów dydaktycznych i metod kształcenia dotyczących m.in. kształcenia w zakresie nauk matematycznych, przyrodniczych i technicznych oraz przedsiębiorcz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adregionalne programy rozwijania kompetencji kluczowych uczniów w szczególności w zakresie: technologii  informacyjno-komunikacyjnych, języków obcych, przedsiębiorczości, nauk przyrodniczo – matematycz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Poddziałanie 3.4.3 Upowszechnienie uczenia się przez całe życie – projekty konkursowe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czniow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uczyciele i doradcy zawodow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oświatowe prowadzące doradztwo edukacyjno-zawod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koły i placówki oświatowe oraz ich organy prowadzą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uratoria oświa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o można realizować (typy projek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racowanie narzędzi diagnostycznych i materiałów metodycznych wspomagających proces rozpoznawania predyspozycji i zainteresowań zawodowych uczni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owa systemu internetowej informacji edukacyjno-zawodowej oraz systemu internetowego poradnictwa edukacyjno-zawodowego (m.in. w ramach portalu edukacyjnego Scholar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ublikacja specjalistycznego biuletynu dla uczniów i doradców zawodow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racowanie i pilotażowe wdrożenie programów doskonalenia zawodowego w przedsiębiorstwach dla nauczycieli kształcenia zawodow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MPONENT REGIONAL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IORYTET IX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ROZWÓJ WYKSZTAŁCENIA I KOMPETENCJI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 REGIONACH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ał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Wyrównywanie szans edukacyjnych i zapewnienie wysokiej jakości usług  edukacyjnych świadczonych w systemie oświa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Podniesienie atrakcyjności i jakości szkolnictwa zawodow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Upowszechnienie formalnego kształcenia ustaw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Wysoko wykwalifikowane kadry systemu oświ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Oddolne inicjatywy edukacyjne na obszarach wi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Poddziałanie 9.1.1 Zmniejszanie nierówno</a:t>
            </a:r>
            <a:r>
              <a:rPr b="0" lang="pl-PL" sz="2400" spc="-1" strike="noStrike">
                <a:solidFill>
                  <a:srgbClr val="990033"/>
                </a:solidFill>
                <a:latin typeface="Times New Roman"/>
              </a:rPr>
              <a:t>ś</a:t>
            </a: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ci w stopniu upowszechnienia edukacji przedszkolnej </a:t>
            </a:r>
            <a:r>
              <a:rPr b="1" i="1" lang="pl-PL" sz="2400" spc="-1" strike="noStrike">
                <a:solidFill>
                  <a:srgbClr val="990033"/>
                </a:solidFill>
                <a:latin typeface="Times New Roman"/>
              </a:rPr>
              <a:t>- projekty konkursowe    </a:t>
            </a: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NABÓR – luty 2008!!!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zieci w wieku przedszkolnym (3-5 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zice dzieci w wieku przedszkolnym (3-5 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niejące przedsz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 można realizować (typy projektó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rzenie ośrodków wychowania  przedszkolnego (w tym również realizacja alternatywnych form wychowania przedszkolnego) na obszarach i w środowiskach o niskim stopniu upowszechnienia edukacji przedszkolnej (obszarach szczególności na obszarach wiejsk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arcie istniejących przedszkoli przyczyniające się do zwiększonego uczestnictwa dzieci w wychowaniu przedszkolnym np. dłuższe godziny pracy przedszkoli, uruchomienie dodatkowego naboru dzieci, zatrudnienie person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racowanie i realizacja kampanii informacyjnych promujących edukację przedszkol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kumenty programow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 Operacyjny Kapitał Ludzki na lata 2007-20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zczegółowy Opis Priorytetów PO K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18 września2007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Poddziałanie 9.1.2 Wyrównywanie szans edukacyjnych uczniów z grup o utrudnionym dostępie do edukacji oraz zmniejszanie różnic w jakości usług edukacyjnych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NABóR – marzec 2008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kie projek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  dodatkowe zajęcia dydaktyczno - wyrównawcze oraz specjalistyczne służące wyrównywaniu dysproporcji edukacyjnych w trakcie procesu kształc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radztwo i opiekę pedagogiczno – psychologiczną dla uczniów wykazujących problemy w nauce lub z innych przyczyn zagrożonych przedwczesnym wypadnięciem z systemu szkolnictwa (np. wsparcie dla uczniów z obszarów wiejskich, wsparcie dla uczniów niepełnosprawnych, przeciwdziałanie uzależnieniom, programy prewencyjne, przeciwdziałanie patologiom społeczny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   programy skierowane do dzieci i młodzieży, które znajdują się poza systemem szkolnictwa podstawowego, gimnazjalnego i ponadgimnazjalnego (przedwcześnie opuszczający system szkolnictwa) umożliwiające ukończenie danego etapu kształcenia oraz kontynuację nau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szerzanie oferty szkół o zagadnienia  związane z poradnictwem i doradztwem edukacyjno - zawodowym, informowaniem uczniów o korzyściach płynących z wyboru danej ścieżki edukacyjnej oraz możliwościach dalszego kształceni w kontekście uwarunkowań lokalnego i regionalnego rynku pracy (szkolne ośrodki kari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tkowe zajęcia (pozalekcyjne uczniów pozaszkolne) dla uczniów ukierunkowane na rozwój kompetencji kluczowych, ze szczególnym uwzględnieniem ICT, języków obcych, przedsiębiorczości, nauk przyrodniczo – matematycz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LA KOGO?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szkoły (instytucje, kadra) i ich organy prowadzące realizujące kształcenie ogó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radnie psychologiczno – pedag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uczniowie szkół podstawowych, gimnazjalnych, ponadgimnazjalnych i policealnych prowadzących kształcenie ogó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9.4 Wysoko wykwalifikowane kadry systemu oświat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abór – styczeń 2008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czyciele i pracownicy dydaktyczni szkół i placówek oświa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ra administracyjna i zarządzająca oświ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Co można realizować (typy projektów)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ia podyplomowe i kursy dosk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dla nauczycieli w zakresie zgodnym z lok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egion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y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kacyj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 tym przygotowanie do nauczania drugiego przedmiotu lub rodzaju prowadzonych za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ia podyplomowe, kursy i szkolenia oraz inne formy podwyższania kwalifikacji pracowników placówek kształcenia ustawicznego, praktycznego i doskonalenia zawodowego oraz instruktorów praktycznej nauki zaw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udia wyższe dla nauczycieli zainteresowanych  podwyższeniem lub uzupełnieniem posiadanego wykształc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udia podyplomowe i kursy doskona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 dla nauczycieli i pracowników administracji 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iatowej w zakresie organizacji, zar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ania, finansowania oraz monitoringu działal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i 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iat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gramy przekwalifikowania nauczycieli szkolnych w zw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ku ze zmieni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ytua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emograficz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ni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lny) w kierunku kształcenia ustawicznego (osób dorosły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zydatne strony internetow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mrr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unduszestrukturalne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efs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malopolskie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fundusze.malopolska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iał PO K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wodnik po progra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je o konkurs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je o szkoleniach i konferencj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zory załączników, oświadczeń i um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żne doku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USZYŁY NABORY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LISTOPADA Wojewódzki Urząd Pracy w Krakowie ogłosił konkursy na składanie wniosków o dofinansowanie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Priorytetu VIII, Działanie 8.1, Poddziałanie 8.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zkolenia skierowane do osób pracujących powyżej 45 roku życia, które posiadają co najwyżej wykształcenie średnie i z własnej inicjatywy są zainteresowane nabyciem nowych, uzupełnieniem lub podwyższeniem kwalifikacji i umiejętności (w formach pozaszkolny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wota na przeznaczona realizację projektów </a:t>
            </a:r>
            <a:r>
              <a:rPr b="1" lang="pl-PL" sz="1800" spc="-1" strike="noStrike">
                <a:solidFill>
                  <a:srgbClr val="b2b2b2"/>
                </a:solidFill>
                <a:latin typeface="Arial"/>
              </a:rPr>
              <a:t>- </a:t>
            </a:r>
            <a:r>
              <a:rPr b="1" lang="pl-PL" sz="1600" spc="-1" strike="noStrike">
                <a:solidFill>
                  <a:srgbClr val="b2b2b2"/>
                </a:solidFill>
                <a:latin typeface="Arial"/>
              </a:rPr>
              <a:t>20 000 000 z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Priorytetu IX, Działanie 9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dolne inicjatywy edukacyjne na obszarach wiejsk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wota na przeznaczona realizację projektów </a:t>
            </a:r>
            <a:r>
              <a:rPr b="1" lang="pl-PL" sz="1800" spc="-1" strike="noStrike">
                <a:solidFill>
                  <a:srgbClr val="b2b2b2"/>
                </a:solidFill>
                <a:latin typeface="Arial"/>
              </a:rPr>
              <a:t>- 1</a:t>
            </a:r>
            <a:r>
              <a:rPr b="1" lang="pl-PL" sz="1600" spc="-1" strike="noStrike">
                <a:solidFill>
                  <a:srgbClr val="b2b2b2"/>
                </a:solidFill>
                <a:latin typeface="Arial"/>
              </a:rPr>
              <a:t> 000 000 z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Termin składania wniosk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 12 listopada 2007 r., godz. 8:00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2 stycznia 2008 r., godz.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Informacja teleadresow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6200" y="1628280"/>
            <a:ext cx="7921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Instytucja Pośrednicząca II ( Instytucja Wdrążają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06800" y="2111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800" y="2492280"/>
            <a:ext cx="689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UP Kraków Plac Na Stawach 1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-mail: efs@wup-krakow.pl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el. (12) 424 07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1480" y="4116240"/>
            <a:ext cx="74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Instytucja Pośredniczą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52880" y="4573440"/>
            <a:ext cx="0" cy="43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1480" y="4938840"/>
            <a:ext cx="7526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MWM Kraków Wielicka 72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-mail: pokl@malopolska.mw.gov.p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el. (12) 29 90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LE PROGRAM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m głównym Programu j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zrost zatrudnienia i spójności społeczne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osiągnięcia tego celu przyczynia się realizacja celów strategicznych, do których należ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asowanie zasobów pracy do zmieniającej się sytuacji na rynku p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mniejszenie obszarów wykluczenia społe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iesienie poziomu i jakości wykształcenia społecz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parcie dla budowy sprawnego i partnerskiego państ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zrost spójności terytorial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szary wsparcia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będzie koncentrował wsparcie na następujących obszar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trudni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k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cja społecz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wój potencjału adaptacyjnego pracowników i przedsiębiorst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wą sprawnej i skutecznej administracji publi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wój zasobów ludzkich na terenach wi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wy zdrowotne pracowni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nansowan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gram Operacyjny Kapitał Ludzki finansowany będzie w 85 proc. ze środków Unii Europejskiej (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oraz w 15 proc. ze środków krajow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ałość kwoty, jaką przewidziano na realizację Programu, wynosi prawie 11,5 mld euro, w tym wkład finansowy Europejskiego Funduszu Społecznego to ponad 9,7 mld  euro, a pozostałą część stanowią środki krajowe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Środki finansowe PO K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1700280"/>
          <a:ext cx="7772400" cy="4349520"/>
        </p:xfrm>
        <a:graphic>
          <a:graphicData uri="http://schemas.openxmlformats.org/drawingml/2006/table">
            <a:tbl>
              <a:tblPr/>
              <a:tblGrid>
                <a:gridCol w="5818320"/>
                <a:gridCol w="1954080"/>
              </a:tblGrid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progra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0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central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6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regional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0 ml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dla MAŁOPOL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9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rot="8074200">
            <a:off x="5644440" y="5505120"/>
            <a:ext cx="1428840" cy="1307880"/>
          </a:xfrm>
          <a:prstGeom prst="wedgeEllipseCallout">
            <a:avLst>
              <a:gd name="adj1" fmla="val -101337"/>
              <a:gd name="adj2" fmla="val -2844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stanowi 8,32 % środkó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rządzanie program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stytucją Zarządzającą PO KL jest minister właściwy ds. rozwoju regionalnego, który wykonuje swoje funkcje przy pomocy Departamentu Zarządzania Europejskim Funduszem Społecznym w Ministerstwie Rozwoju Regionalnego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stytucja Zarządzająca przekaże realizację części swoich zadań Instytucjom Pośredniczącym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, II – minister właściwy ds. pracy i polityki społeczn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II - minister właściwy ds. oświaty i wychowani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V - minister właściwy ds. szkolnictwa wyższ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V - minister właściwy ds. administracji publiczn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VI – IX - zadania są delegowane do poszczególnych Samorządów Województ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ystem wdrażania POKL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 Województwie Małopolski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odstawie Uchwały nr 54/07 Zarządu Województwa Małopolskiego z dnia 5 lutego 2007 roku dokonano podziału obowiązków w procesie wdrażania PO KL w Województwie Małopolsk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ania Instytucji Pośredniczącej pełni Departament Polityki Regionalnej Urzędu Marszałkowsk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ania Instytucji Wdrażającej /IP 2 pełni Wojewódzki Urząd Pracy w Krakow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ALIZACJA PROGRAM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ramach PO KL przewiduje się realizację projektu w dwóch trybach: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ystemowym i konkursowym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ybie systemowym projekty są realizowane przez beneficjentów imiennie wskazanych w Programie lub dodatkowych dokumentach stanowiących jego uszczegółowi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tomiast w trybie konkursowym projekty będą mogły realizować wszystkie podmioty m.in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rynku pracy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szkoleniowe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dnostki administracji rządowej i samorządowej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siębiorcy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otoczenia biznesu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ganizacje pozarządowe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systemu oświaty i szkolnictwa wyższego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podmio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ormacje na temat procedur wyboru projektów zawarte są w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nie działan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coroczni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ygotowywanym przez IP dla każdego  Priorytetu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0:23:13Z</dcterms:created>
  <dc:creator>ania</dc:creator>
  <dc:description/>
  <dc:language>en-US</dc:language>
  <cp:lastModifiedBy>ania</cp:lastModifiedBy>
  <dcterms:modified xsi:type="dcterms:W3CDTF">2007-12-06T10:02:04Z</dcterms:modified>
  <cp:revision>21</cp:revision>
  <dc:subject/>
  <dc:title>PROGRAM OPERACYJNY KAPITAŁ LUDZKI 2007-2013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1183958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