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0FE-619F-4B64-A5DE-32AB29BA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835-042F-46DA-81BB-BACE5E8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2DC-03B2-4F1F-B6A7-44015552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AD9-BC12-44B2-9D94-F4575B5A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D18-67DF-45E7-9720-DA3DCA4A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F53-5951-49E2-9116-D186B23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0EF-77C2-4FFA-A3F9-A8DC42D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DC7-B107-4AB1-958D-91C8F49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B8D-B555-41F1-A41D-B4249529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DC7-FC36-43DD-8030-CAB5CDD1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C13-5567-425B-878C-06B0FB8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596-702B-45C6-8E55-A7C0FFC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38F-8089-4107-9692-765A035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919E-E0F3-4C97-BC23-F57D28F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E1D-767B-443C-8031-E4ADC1EA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26D5-C23A-45AB-BB28-58645C32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0F6-980D-4145-B9D7-9D85E963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121-2709-44FE-9115-634570B9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C85-DD80-4D3B-ADBE-A95FAD3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56E-6721-4DAA-AE08-B93A3CF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6A0-5D59-402E-9310-282FFE0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6EA-9481-4201-B32F-CE0D243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72E-0831-499F-B371-856FFB9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634-F857-4A3B-B65D-7F0A59F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17D1-D2C5-459A-A7EB-FA6840DDA6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FCA-EFAD-4236-A79A-EDC4FF8B41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1 Cel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potrzebę realizacji projektu (wskaż problem/y, który/e chcesz rozwiąza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każ cel ogólny oraz cele szczegółow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zgodność celów z POKL, Planem Działań (i innymi dokumentami strategiczny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2 Grupy docelow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arakteryzuj osoby i/lub instytucje, które zostaną objęte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wybór grupy docelowej, którą obejmiesz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sposób rekrutacji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3 Dział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działania podejmowane w projekcie, zgodnie z chronologią z zadań wskazaną w budżecie i harmonogra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4 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twarde i miękkie rezultaty projektu w odniesieniu do planowanych działa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, w jaki sposób rezultaty będą monitorowane, bad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z, w jaki sposób rezultaty przyczynią się do realizacji celu projekt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TW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nalazły prac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ostały przeszk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przeprowadzonych kurs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materiałów szkolen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wydanych certyfika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MIĘKK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wiedzy, motywacji, umiejęt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janie zdo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bycie nowych umiejętn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e zdolności komunikacyj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omiar rezultató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adania ankietowe wśród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isty obec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formacje od uczestników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zdania z realizacj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3.5 Potencjał projektodawcy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 zarządzanie projekt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doświadczenie w realizacji podobnych przedsięwzięć/projek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, w jaki sposób projekt będzie zarządz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kie zaplecze techniczne oraz jaka kadra zaangażowane będą w realizację projektu (wskaż osoby/stanowiska w projek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isz przychody, jakie osiągnął beneficjent/partnerzy za poprzedni rok obro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rolę partnerów lub innych instytucji zaangażowanych w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lityki horyzontalne UE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iesienie projektu do polityk horyzontal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chrony środowisk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łeczeństwa informacyj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wnych sz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Trwałość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aliza aspektów, wpływających na trwałość przedsięwzię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finans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organizacyj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merytory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tencjalne ryzyka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ryzyk – sprecyzowanie czynników, które mogą zakłócić realizację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owe „przeszkody” w projektach miękk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hętnych do udziału w szkol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ej liczby kandydatów spełniających wymagane kry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zygnacja uczestników w trakcie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y prawne i procedur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oświadczenia zespołu projekt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MO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obowiązek rozpowszechniania informacji o projekcie i jego współfinansowaniu ze środkó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tykuły i publikacje w prasie, na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portaże w telewi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ogo na materiałach szkoleniowych,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 (Arial 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2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3" name=""/>
            <p:cNvCxnSpPr>
              <a:stCxn id="200" idx="2"/>
              <a:endCxn id="199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3T11:15:16Z</dcterms:modified>
  <cp:revision>16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09776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