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5586-7BEE-4324-BFC8-4D8BB1D1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E37-16DF-4098-9D41-EB9DDE69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BA3-762B-4DBE-876C-07AA9939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8A2-F537-4E56-949C-8C080C8A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1FB8-824D-4658-8F51-7BD54C03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B06B-72C9-4938-AF91-944E6056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7A6B-AFDA-4A58-945E-1C37640A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B8CF-D3CD-4276-80CD-F87F9D9A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9546-9473-4D3E-A324-B8B0921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71B6-6E4D-4D14-8852-56BC11A3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98AB-A7FA-44C4-8CCF-E91CBAB9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82E-9C1B-48C6-BCAF-17F029F6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43AD-E7E5-4D48-9694-F46686D9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E842-4C19-4B00-BE16-76DB92974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529C7-7C6B-4161-AF82-CABA330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BD3D-224D-493A-8BDB-4CD227D9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C069-54C2-499B-8944-37B7CB93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5C5-8FBF-4CAB-BA35-B547622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CD6-C5EF-4BFD-BAF0-AE1F93D6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E9B4-24F1-4F0F-ADA0-212BF5FB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2E17-2B6A-4CA8-AFBC-0E55477B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2789-F317-445D-A46A-495A304C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077-A3A6-4560-9853-24F672D2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7E9F-3382-4EBC-BCBA-261C4A4E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C4F6A-F448-46CB-A4DD-04FB90030897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F09F-42B8-4D36-A4DA-C0F90CA475CD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PROJEKT – od pomysłu do realizacji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URO FUNDUSZY EUROP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ZĘDU MIASTA KRAK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4888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1640" y="907920"/>
            <a:ext cx="71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łuży realizacji określonego</a:t>
            </a:r>
            <a:r>
              <a:rPr b="0" lang="en-US" sz="36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e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06560" y="1700280"/>
            <a:ext cx="813744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ie realizujemy go tylko dla samej realizacj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jekt jest zawsze częścią większego planu (programu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4000" y="260280"/>
            <a:ext cx="813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dział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1773360"/>
            <a:ext cx="8520120" cy="49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zacja projektu wymaga podejmowania określonych działa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iektóre z nich są ze sobą powiązane w ten sposób, że podjęcie jednego wymaga zakończenia in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ą też działania, które można prowadzić równole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 więcej powiązanych działań tym bardziej złożony i trudniejszy jest pro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95280" y="836640"/>
            <a:ext cx="83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zasie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oraz posiada określony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zaso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52480"/>
            <a:ext cx="914400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jasno określony początek i 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zędziem które pomaga pilnować czasu trwania projektu jest harmon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ma przypisany określony budżet i zasoby (ludzkie, materiałowe), które określają jego r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042920" y="0"/>
            <a:ext cx="58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yjątkowy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charak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836640"/>
            <a:ext cx="8610480" cy="45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kt jest przedsięwzięciem którego nie realizujemy codzien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przedsięwzięciem dużym, o określonym stopniu trudności i zwykle nie jest przedsięwzięciem powtarzal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żdy projekt funkcjonuje w innych uwarunkowaniach wewnętrznych i zewnętrz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67597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066680"/>
          <a:ext cx="3817800" cy="2308320"/>
        </p:xfrm>
        <a:graphic>
          <a:graphicData uri="http://schemas.openxmlformats.org/drawingml/2006/table">
            <a:tbl>
              <a:tblPr/>
              <a:tblGrid>
                <a:gridCol w="3817800"/>
              </a:tblGrid>
              <a:tr h="115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648320" y="1066680"/>
          <a:ext cx="3886200" cy="230508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130400" y="2994120"/>
          <a:ext cx="3598920" cy="2355840"/>
        </p:xfrm>
        <a:graphic>
          <a:graphicData uri="http://schemas.openxmlformats.org/drawingml/2006/table">
            <a:tbl>
              <a:tblPr/>
              <a:tblGrid>
                <a:gridCol w="3598920"/>
              </a:tblGrid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4944960" y="3078000"/>
          <a:ext cx="3597480" cy="2355840"/>
        </p:xfrm>
        <a:graphic>
          <a:graphicData uri="http://schemas.openxmlformats.org/drawingml/2006/table">
            <a:tbl>
              <a:tblPr/>
              <a:tblGrid>
                <a:gridCol w="3597480"/>
              </a:tblGrid>
              <a:tr h="11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4f57"/>
                    </a:solidFill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5c27d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2971800" y="1828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895480" y="1828800"/>
            <a:ext cx="3743280" cy="230364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114800"/>
            <a:ext cx="38163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111400"/>
            <a:ext cx="720720" cy="2232000"/>
          </a:xfrm>
          <a:custGeom>
            <a:avLst/>
            <a:gdLst>
              <a:gd name="textAreaLeft" fmla="*/ 211680 w 720720"/>
              <a:gd name="textAreaRight" fmla="*/ 721080 w 720720"/>
              <a:gd name="textAreaTop" fmla="*/ 92880 h 2232000"/>
              <a:gd name="textAreaBottom" fmla="*/ 213912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914400" y="1219320"/>
          <a:ext cx="3809880" cy="41846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17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YFIK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76920" y="1219320"/>
          <a:ext cx="3563640" cy="4176360"/>
        </p:xfrm>
        <a:graphic>
          <a:graphicData uri="http://schemas.openxmlformats.org/drawingml/2006/table">
            <a:tbl>
              <a:tblPr/>
              <a:tblGrid>
                <a:gridCol w="356364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kreślenie potrze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żliwość ich    zaspokojen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niesienie do dokumentów planistyczny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7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609480" y="1295280"/>
          <a:ext cx="3810240" cy="452304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OW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1295280"/>
          <a:ext cx="3665520" cy="451512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64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ałania i harmonogr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ż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a zarządzają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685800" y="1295280"/>
          <a:ext cx="3809880" cy="452304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Z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4572000" y="1295280"/>
          <a:ext cx="3809880" cy="4525920"/>
        </p:xfrm>
        <a:graphic>
          <a:graphicData uri="http://schemas.openxmlformats.org/drawingml/2006/table">
            <a:tbl>
              <a:tblPr/>
              <a:tblGrid>
                <a:gridCol w="380988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drażanie działa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wynik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zowanie zagroże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09480" y="1143000"/>
          <a:ext cx="3810240" cy="4522680"/>
        </p:xfrm>
        <a:graphic>
          <a:graphicData uri="http://schemas.openxmlformats.org/drawingml/2006/table">
            <a:tbl>
              <a:tblPr/>
              <a:tblGrid>
                <a:gridCol w="381024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ok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829"/>
                    </a:solidFill>
                  </a:tcPr>
                </a:tc>
              </a:tr>
              <a:tr h="343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fa9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4495680" y="1143000"/>
          <a:ext cx="3665520" cy="4518000"/>
        </p:xfrm>
        <a:graphic>
          <a:graphicData uri="http://schemas.openxmlformats.org/drawingml/2006/table">
            <a:tbl>
              <a:tblPr/>
              <a:tblGrid>
                <a:gridCol w="3665520"/>
              </a:tblGrid>
              <a:tr h="14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 efektó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rezultatam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a niezgodności – działania korygują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e życie” proje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75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nstrukcja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990033"/>
                </a:solidFill>
                <a:latin typeface="Arial"/>
              </a:rPr>
              <a:t>WYPEŁNIANIE WNIOSKU CZAS ZACZĄĆ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CHARAKTERYSTYKA PROJEKTU</a:t>
            </a:r>
            <a:br>
              <a:rPr sz="4200"/>
            </a:b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3. Opis projektu wraz  </a:t>
            </a:r>
            <a:br>
              <a:rPr sz="4200"/>
            </a:b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z uzasadnieni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1 Miejsce realizacji projektu</a:t>
            </a:r>
            <a:r>
              <a:rPr b="0" lang="en-GB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1 Województwo – Małopol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2 Pow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3 Gm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4 Miejscow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1.5 Projekt realizowany poza granicami kra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bór z rozwijanej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2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Rodzaj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ybór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rozwijanej listy typu projektu zgodnie z list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zewidzian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Uszczegółowieniu MRPO dla danego Dział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padku, je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 projekt nie wpisuje si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kładowe rodzaje projektów wskazane w Uszczegółowieniu MRPO, Beneficjent ma możliwo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isania dodatkowego rodzaju projektu, który musi by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ć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ójny z celami danego działan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przypadku wpisania dodatkowego rodzaju projektu Beneficjent zobowi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ny jest do przedstawienia stosownego uzasadnienia w odniesieniu do zgodno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projektu z celami danego działania programu,  które b</a:t>
            </a:r>
            <a:r>
              <a:rPr b="0" lang="en-US" sz="2400" spc="-1" strike="noStrike">
                <a:solidFill>
                  <a:srgbClr val="000000"/>
                </a:solidFill>
                <a:latin typeface="TTE1438830t00"/>
              </a:rPr>
              <a:t>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e poddane weryfikacji na etapie oceny formalnej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3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Tło i uzasadnienie konieczności realizacji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i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nu istniejącego (rów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z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mocą danych liczbowych), z którego wynika potrzeba zareagowania na problem, bądź 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unięcia skutków zaistniałych problemó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 punkcie tym nal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wykazać równi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godność zał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ń projektu ze Strategią Rozwoju Województwa na lata 2007-2013 ora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z innymi, właściwymi ze względu na zakres projektu strategiami lokalnymi lub sektorowy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x. 4 tyś znaków ze spacj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3.4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Opis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 będzie przedmiotem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u, przedstaw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eni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ział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ń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odejmow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ych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 projekcie, produk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ów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projektu (prz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ykorzystaniu danych liczbowych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is musi jednoznacznie identyfikować przedmio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jektu i jasno określać jego zakres rzeczow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x. 4 tyś. znaków ze spacj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5 Informacja nt. stanu przygotowania projektu do realizacj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 stanu zaawansowania prac nad projektem. Należy odznaczyć właściwą opcj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1 Dla projektów wymagających pozwolenia na budowę / zgłoszenia robót oraz dla projektów typu „zaprojektuj i wybuduj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2 Dla projektów dotyczących dost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5.3 Dla projektów nieinwestycyj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6 Inne podmioty zaangażowane </a:t>
            </a:r>
            <a:br>
              <a:rPr sz="4000"/>
            </a:b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w realizację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realizacji projektu w formule partnerstwa należy wymienić nazwy instytucji uczestniczących w realizacji zadania wraz z krótkim opisem charakteru ich zaangażow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rzypadku związków i porozumień zawieranych pomiędzy jednostkami samorządu terytorialnego należy wskazać podmioty zaangażowane, typ partnerstwa oraz krótko opisać charakter ich zaangażow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3.7 Cele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Opis długofalowego oddziaływania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kazanie zgodności celów projektu z „Celami działania” opisanymi dla konkretnego działania w Uszczegółowieniu MR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achowanie spójności z punktem 5.2 – Wskaźniki rezultatu realizacji projektu, oraz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trycą logicz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Max 4 tyś. znaków ze spacj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4. Okres realizacji projektu</a:t>
            </a:r>
            <a:r>
              <a:rPr b="0" lang="en-GB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1 Planowany termin rozpoczęcia projektu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ujęciu miesięcz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2 Planowany termin zakończenia rzeczowego i finansowego realizacji projektu w ujęciu miesięczn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3 Uzasadnienie w przypadku przekroczenia 24 miesięcznego okresu (max. do 36 miesięcy), np. względy techniczne lub technologiczne, które uniemożliwiają realizację projektu w czasie krótszym niż 24 miesią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5. Wskaźniki realizacji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.1 Wskaźniki produktu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- bezpośredni, materialny efekt realizacji przedsięwzięcia mierzony konkretnymi wielkościami, np. 4 km zmodernizowanej drogi, 1 wybudowany obiekt sportow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5.2 Wskaźniki rezultatu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– wpływ zrealizowanego przedsięwzięcia na otoczenie społeczno – ekonomiczne uzyskany bezpośrednio po zakończeniu realizacji projektu, np. skrócenie czasu przejazdu, liczba użytkownik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 zasada pracy nad projektem mówi, że </a:t>
            </a:r>
            <a:r>
              <a:rPr b="0" lang="pl-PL" sz="2000" spc="-1" strike="noStrike">
                <a:solidFill>
                  <a:srgbClr val="990033"/>
                </a:solidFill>
                <a:latin typeface="Arial"/>
              </a:rPr>
              <a:t>NIE WOLNO ZACZYNAĆ OD WYPEŁNIANIA WNIOSKU O DOFINANSOWANI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nim zaczniesz wypełniać wniosek o dofinansowanie znajdź odpowiedź na pyta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zrobić i po co? (opis projektu z podziałem na cele, działania i rezulta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czego warto się tego podjąć? (uzasadnie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kogo są przeznaczone te działania? (beneficjenci ostatecz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 ma wyglądać organizacja prac? (zarządzan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to jest potrzebny do zrealizowania zadań? (zespó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le to będzie kosztowało i jak to chcesz sfinansować? (budż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chcesz osiągnąć i jak to sprawdzisz? (wskaźniki,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 może Ci przeszkadzać w realizacji projektu? (ryzy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6. Planowane wydatki projektu</a:t>
            </a:r>
            <a:r>
              <a:rPr b="0" lang="en-GB" sz="4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   (liczbowo i słownie)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1 Całkowita wartość projektu (brutto) – suma kosztów kwalifikowanych i niekwalifikowany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2 Całkowita wartość kosztów kwalifikowan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przygotowawcze (np. dokumentacja techniczna, przygotowanie postępowania w zakresie zamówienia publicznego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inwestycyjne (roboty budowlane, montażowe, zakup sprzętu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pozostałe koszty (np. promoc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koszty szkoleniowe w ramach cross- financing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3 Całkowita wartość kosztów niekwalifikowanych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7. Źródła finansowania projektu</a:t>
            </a:r>
            <a:r>
              <a:rPr b="0" lang="pl-PL" sz="3800" spc="-1" strike="noStrike">
                <a:solidFill>
                  <a:srgbClr val="330033"/>
                </a:solidFill>
                <a:latin typeface="Times New Roman"/>
              </a:rPr>
              <a:t> (koszty kwalifikowane, zob. punkt 6.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1 Wnioskowana kwota dofinansowani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EFRR w ujęciu kwotowym i procentow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2 Wkład krajowy to suma środk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7.2.1 Wkład własny beneficj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7.2.2 Inne źródła dofinansow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3 Opis źródeł pokrycia krajowego wkładu do projektu (o których mowa w punkcie 7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8. Pomoc publiczna uzyskana </a:t>
            </a:r>
            <a:br>
              <a:rPr sz="4000"/>
            </a:b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 i planowana do uzyskania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kazanie czy na realizację przedmiot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ktu uzyskał do tej pory wsparcie w formie pomocy publi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9. Trwałość projekt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Sposób wykorzystania i finansowania projektu po zakończeniu jeg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osób wykorzystania i finansowania projektu po zakończeniu jego realizacj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aka jest zdolność instytucjonalna Beneficjenta do realizacji projektu (jakie jest jego doświadcz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struktura organizacyjna gwarantująca prawidłowe utrzymanie produktów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Czy przewidywane są dochody w trakcie realizacji projektu i/lub po jego zakończeniu (TAK/N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10. Dodatkowe informacje wymagane regulaminem konkursu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t ten przeznaczony jest na dodatkowe informacje wymagane regulaminem konkursu dla poszczególnych Działań MR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0033"/>
                </a:solidFill>
                <a:latin typeface="Times New Roman"/>
              </a:rPr>
              <a:t>11. Załącznik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kt ten służy identyfikacji załączników dostarczanych jako uzupełnienie informacji zawartych w karcie lub też wymaganych zapisami programu operacyjnego i/lub regulaminem konkurs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leży wybrać z listy rozwijanej odpowiednie załączniki dołączone do karty projektowe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550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Kwestie formalne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532720" cy="47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d wypełnieniem wniosku przeczytaj INSTRUKCJĘ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razie wątpliwości skontaktuj się z jednostką przyjmując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iecznie zapoznaj się z programem, szczegółowo przeanalizuj uzasadnienia i cele priorytetów oraz działa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iosek wypełnij starannie, odpowiedz na wszystkie pytania w sposób konkretny, czytelny i wyczerpując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wróć uwagę na rodzaj czcionki, sposób podpisania wniosku (niebieski tusz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pisują tylko upoważnione osob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łącz wszystkie załączniki dla swojej kategorii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748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stosowanie obowiązującego formular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w sposób niezgodny z regulaminem konkursu (z reguły regulaminy stanowią o sposobie oznaczenia wniosku, liczbie wymaganych kopii itp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ładanie wniosku po wyznaczonym termi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udzielenie odpowiedzi na wszystkie pytania wniosku bądź udzielenie odpowiedzi niezgodnej z treścią pytan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łożenie wniosku przez nieuprawnionego projektodawc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spójności logicznej treści wnios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dołączenie wszystkich wymaganych załącznikó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581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Najczęstsze błędy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74872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instrukcją wypełniania wnio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pis osoby nieupoważnio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cech projektu (nierozwojowe przedsięwzię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iezgodność z wymaganiam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óżnice oryginał – ko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araf, brak potwierdzenia za zgodność z oryginał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płynności finansowej projektodaw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wiedzy i doświadcz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rak gotowości do realiz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zy to takie trudne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1052640"/>
            <a:ext cx="78375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95280" y="1628640"/>
            <a:ext cx="8555040" cy="4767120"/>
            <a:chOff x="395280" y="1628640"/>
            <a:chExt cx="8555040" cy="476712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6386400" y="1704960"/>
              <a:ext cx="2563920" cy="46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2224080" y="4066920"/>
              <a:ext cx="2743200" cy="194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395280" y="1628640"/>
              <a:ext cx="1752480" cy="22096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10" name=""/>
            <p:cNvCxnSpPr/>
            <p:nvPr/>
          </p:nvCxnSpPr>
          <p:spPr>
            <a:xfrm>
              <a:off x="395280" y="3227760"/>
              <a:ext cx="1829520" cy="2305440"/>
            </a:xfrm>
            <a:prstGeom prst="curvedConnector5">
              <a:avLst>
                <a:gd name="adj1" fmla="val 1889"/>
                <a:gd name="adj2" fmla="val 49992"/>
                <a:gd name="adj3" fmla="val 1889"/>
              </a:avLst>
            </a:prstGeom>
            <a:ln w="47520">
              <a:solidFill>
                <a:srgbClr val="ffcc00"/>
              </a:solidFill>
              <a:miter/>
              <a:headEnd len="med" type="oval" w="med"/>
              <a:tailEnd len="med" type="triangle" w="med"/>
            </a:ln>
          </p:spPr>
        </p:cxnSp>
        <p:cxnSp>
          <p:nvCxnSpPr>
            <p:cNvPr id="211" name=""/>
            <p:cNvCxnSpPr>
              <a:stCxn id="208" idx="2"/>
              <a:endCxn id="207" idx="1"/>
            </p:cNvCxnSpPr>
            <p:nvPr/>
          </p:nvCxnSpPr>
          <p:spPr>
            <a:xfrm flipH="1" flipV="1" rot="5400000">
              <a:off x="4012200" y="3633840"/>
              <a:ext cx="1958040" cy="2791440"/>
            </a:xfrm>
            <a:prstGeom prst="curvedConnector5">
              <a:avLst>
                <a:gd name="adj1" fmla="val -11677"/>
                <a:gd name="adj2" fmla="val 37275"/>
                <a:gd name="adj3" fmla="val -11677"/>
              </a:avLst>
            </a:prstGeom>
            <a:ln w="44280">
              <a:solidFill>
                <a:srgbClr val="ffcc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imes New Roman"/>
              </a:rPr>
              <a:t>Logika interwencji projektu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1760" y="5573880"/>
            <a:ext cx="1037160" cy="520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Wkł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17320" y="5668920"/>
            <a:ext cx="149148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330033"/>
                </a:solidFill>
                <a:latin typeface="Arial Narrow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0033"/>
                </a:solidFill>
                <a:latin typeface="Arial Narrow"/>
              </a:rPr>
              <a:t>(activit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9800" y="4262400"/>
            <a:ext cx="210384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Produ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obra i usłu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2205000"/>
            <a:ext cx="3276720" cy="143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Rezulta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bezpośrednie i natychmiast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4800" y="549360"/>
            <a:ext cx="335304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Arial Narrow"/>
              </a:rPr>
              <a:t>Oddziaływa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 Narrow"/>
              </a:rPr>
              <a:t>(długoterminowe efek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95560" y="37288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5649840"/>
            <a:ext cx="838080" cy="304920"/>
          </a:xfrm>
          <a:prstGeom prst="rightArrow">
            <a:avLst>
              <a:gd name="adj1" fmla="val 42704"/>
              <a:gd name="adj2" fmla="val 5257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95560" y="5253120"/>
            <a:ext cx="304920" cy="380880"/>
          </a:xfrm>
          <a:prstGeom prst="upArrow">
            <a:avLst>
              <a:gd name="adj1" fmla="val 41667"/>
              <a:gd name="adj2" fmla="val 3122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5560" y="1671480"/>
            <a:ext cx="304920" cy="381240"/>
          </a:xfrm>
          <a:prstGeom prst="upArrow">
            <a:avLst>
              <a:gd name="adj1" fmla="val 41667"/>
              <a:gd name="adj2" fmla="val 3125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416720" y="824040"/>
            <a:ext cx="304920" cy="4038480"/>
          </a:xfrm>
          <a:custGeom>
            <a:avLst/>
            <a:gdLst>
              <a:gd name="textAreaLeft" fmla="*/ 0 w 304920"/>
              <a:gd name="textAreaRight" fmla="*/ 110160 w 3049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835520" y="776160"/>
            <a:ext cx="533160" cy="4038480"/>
            <a:chOff x="4835520" y="776160"/>
            <a:chExt cx="533160" cy="4038480"/>
          </a:xfrm>
        </p:grpSpPr>
        <p:sp>
          <p:nvSpPr>
            <p:cNvPr id="113" name=""/>
            <p:cNvSpPr/>
            <p:nvPr/>
          </p:nvSpPr>
          <p:spPr>
            <a:xfrm>
              <a:off x="4911480" y="45100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2681280"/>
              <a:ext cx="457200" cy="304560"/>
            </a:xfrm>
            <a:prstGeom prst="rightArrow">
              <a:avLst>
                <a:gd name="adj1" fmla="val 42704"/>
                <a:gd name="adj2" fmla="val 287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35520" y="776160"/>
              <a:ext cx="457200" cy="304920"/>
            </a:xfrm>
            <a:prstGeom prst="rightArrow">
              <a:avLst>
                <a:gd name="adj1" fmla="val 42704"/>
                <a:gd name="adj2" fmla="val 2868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659200" y="4292640"/>
            <a:ext cx="160416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pera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87200" y="2421000"/>
            <a:ext cx="154152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ząstko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59560" y="620640"/>
            <a:ext cx="1052280" cy="9471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Ce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0033"/>
                </a:solidFill>
                <a:latin typeface="Arial Narrow"/>
              </a:rPr>
              <a:t>ogó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276240" y="2685240"/>
            <a:ext cx="3811680" cy="520560"/>
          </a:xfrm>
          <a:prstGeom prst="rect">
            <a:avLst/>
          </a:prstGeom>
          <a:solidFill>
            <a:srgbClr val="e468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Arial Narrow"/>
              </a:rPr>
              <a:t>Cele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448920"/>
            <a:ext cx="84326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Wkład (in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1328400"/>
            <a:ext cx="837576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zaangażowane przez beneficjenta w trakcie wdrażania daneg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63480" indent="0">
              <a:lnSpc>
                <a:spcPct val="15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soby finansowe, zasoby ludzkie, zasoby materialne, zasoby organizacyjne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803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Produkt (outpu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820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8200" indent="0">
              <a:lnSpc>
                <a:spcPct val="170000"/>
              </a:lnSpc>
              <a:spcBef>
                <a:spcPts val="876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zystkie produkty materialne i usługi, które otrzymuje beneficjent w trakcie realizacji projektu przy wykorzystaniu zaangażowanych zasobó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448920"/>
            <a:ext cx="820404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900" spc="-1" strike="noStrike">
                <a:solidFill>
                  <a:srgbClr val="330033"/>
                </a:solidFill>
                <a:latin typeface="Times New Roman"/>
              </a:rPr>
              <a:t>Rezultat (result)</a:t>
            </a: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zpośrednie i natychmiastowe efekty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456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miany, jakie nastąpiły w wyniku wdrożenia projektu u bezpośrednich beneficjentów pomo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920000" cy="1076400"/>
          </a:xfrm>
          <a:prstGeom prst="rect">
            <a:avLst/>
          </a:prstGeom>
          <a:solidFill>
            <a:srgbClr val="a7be3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CEL – pozytywny, oczekiwany stan w przyszłości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5229000"/>
            <a:ext cx="7479000" cy="990360"/>
          </a:xfrm>
          <a:prstGeom prst="rect">
            <a:avLst/>
          </a:prstGeom>
          <a:solidFill>
            <a:srgbClr val="f14f57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 –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ywny obraz rzeczywist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5760"/>
            <a:ext cx="37134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30033"/>
                </a:solidFill>
                <a:latin typeface="Times New Roman"/>
              </a:rPr>
              <a:t>Rola projektu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0" y="2205000"/>
            <a:ext cx="4465440" cy="287964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K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24528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to jest projekt 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765000"/>
            <a:ext cx="860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349360"/>
            <a:ext cx="8915400" cy="40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łuży realizacji określonego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el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skoordynowane i wzajemnie powiązane ze sobą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dział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est ograniczone w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zasi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ma określony początek i koniec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iada określon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dżet i zasob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a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yjątkow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harak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19280" y="15238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zedsięwzięcie, któ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9:33:03Z</dcterms:created>
  <dc:creator>ania</dc:creator>
  <dc:description/>
  <dc:language>en-US</dc:language>
  <cp:lastModifiedBy>lalickma</cp:lastModifiedBy>
  <dcterms:modified xsi:type="dcterms:W3CDTF">2007-12-14T12:42:44Z</dcterms:modified>
  <cp:revision>31</cp:revision>
  <dc:subject/>
  <dc:title>PROJEKT – od pomysłu do realizacj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24621599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