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7ED0-0A72-4682-975B-547457DE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A4A0-2AC4-49B2-ACCF-BE3BAD9A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A8F6-5643-4562-9FA1-9E6E7F2F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00C9-0220-46F7-961B-E52FBF65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0E0F-1C23-4141-8F81-39BE0DEC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B03D-029B-4207-A03E-4CDD8A9F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4CD7-7136-481F-9C4A-BA503B75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DE08-7121-482D-AEE0-617D154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B624-249F-4845-B5E8-2EFBA783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4F00-A349-4A2F-B2D5-30E51258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6A08-2A36-4B72-B491-B596995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FD4-EE5B-40D9-BA2A-BFB5FBDE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389C-BFAF-4FA9-ADC6-23F1027E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BCE9-0F4C-4AF5-A5D7-FC82B82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FC601-2025-48C8-9C10-43C56410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4D591-430D-4CB7-A36D-49B658779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6D8A-1D8E-49A9-8B5F-B259AEE1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CA3-DB82-4F48-B4F5-68E5FE85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D704-A630-44B5-9BB6-62F454FD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F19-1FB3-4C8E-899F-9547236B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3FED-A36E-40B9-B149-AD719181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AFC4-6011-414F-8658-38240860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690-92A8-40D1-916D-75DCD67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46A7-DDBC-4DB1-851C-33975E59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106E-C84B-4696-A2DA-019C150B8B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C71F-2527-4090-98AC-F4602BECBF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1 Cel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potrzebę realizacji projektu (wskaż problem/y, który/e chcesz rozwiąza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skaż cel ogólny oraz cele szczegółow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zgodność celów z POKL, Planem Działań (i innymi dokumentami strategicznym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2 Grupy docelow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harakteryzuj osoby i/lub instytucje, które zostaną objęte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zasadnij wybór grupy docelowej, którą obejmiesz wsparc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sposób rekrutacji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3 Działan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działania podejmowane w projekcie, zgodnie z chronologią z zadań wskazaną w budżecie i harmonogram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3.4 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 twarde i miękkie rezultaty projektu w odniesieniu do planowanych działa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z, w jaki sposób rezultaty będą monitorowane, bad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z, w jaki sposób rezultaty przyczynią się do realizacji celu projekt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REZULTAT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TWAR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nalazły prac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osób, które zostały przeszko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iczba przeprowadzonych kurs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materiałów szkoleniow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lość wydanych certyfikat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990033"/>
                </a:solidFill>
                <a:latin typeface="Arial"/>
              </a:rPr>
              <a:t>MIĘKK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zrost wiedzy, motywacji, umiejęt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wijanie zdolnoś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bycie nowych umiejętnoś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większenie zdolności komunikacyj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omiar rezultató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Badania ankietowe wśród uczestnik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isty obec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nformacje od uczestników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awozdania z realizacj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3.5 Potencjał projektodawcy </a:t>
            </a:r>
            <a:br>
              <a:rPr sz="3800"/>
            </a:b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i zarządzanie projekte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doświadczenie w realizacji podobnych przedsięwzięć/projekt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, w jaki sposób projekt będzie zarządz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akie zaplecze techniczne oraz jaka kadra zaangażowane będą w realizację projektu (wskaż osoby/stanowiska w projek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pisz przychody, jakie osiągnął beneficjent/partnerzy za poprzedni rok obroto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isz rolę partnerów lub innych instytucji zaangażowanych w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lityki horyzontalne UE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dniesienie projektu do polityk horyzontalny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chrony środowisk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ołeczeństwa informacyj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ównych sz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Trwałość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naliza aspektów, wpływających na trwałość przedsięwzięc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finans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organizacyj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tencjał merytorycz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200" spc="-1" strike="noStrike">
                <a:solidFill>
                  <a:srgbClr val="330033"/>
                </a:solidFill>
                <a:latin typeface="Times New Roman"/>
              </a:rPr>
              <a:t>Potencjalne ryzyka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aliza ryzyk – sprecyzowanie czynników, które mogą zakłócić realizację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kładowe „przeszkody” w projektach miękki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hętnych do udziału w szkoleni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ystarczającej liczby kandydatów spełniających wymagane kry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zygnacja uczestników w trakcie szkol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miany prawne i procedural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doświadczenia zespołu projekt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PROMO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obowiązek rozpowszechniania informacji o projekcie i jego współfinansowaniu ze środków uni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Artykuły i publikacje w prasie, na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portaże w telewiz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ogo na materiałach szkoleniowych, stronach interne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 (Arial 1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02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03" name=""/>
            <p:cNvCxnSpPr>
              <a:stCxn id="200" idx="2"/>
              <a:endCxn id="199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3T11:15:16Z</dcterms:modified>
  <cp:revision>16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309776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