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45A-3D31-4BC2-9C52-F728C1F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E33-4780-43FB-93FE-3D61016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5DF-7997-4B3E-B0A9-2EDC7AB5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161-35DC-416C-A728-61454253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CAC-9A85-45B5-9C83-4F9C89D8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831-9F27-45B0-B520-48FAB78E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4A2-8749-4F2B-84AA-A466D3C5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173F-B478-4176-B690-C23794CC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FBE2-45B4-4D65-AC8C-C3D61BB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BDF1-6AFC-4510-9063-3E15327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697-F5EF-402B-9B4D-D704694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BEB-4982-463D-A3EA-F6BD6BB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C358-A7EA-4EB3-9B9F-22EF0F2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6AAD-142C-4E56-97B7-F910413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983-BC45-4D8C-99B7-49AFE03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971-8168-45B6-98FA-394FB9FA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3EF9-6C5E-40B2-B226-8C0CFC10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3F1-5AF6-4DC6-90CD-05F0C38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E46-4357-4080-97FC-5B59BD3D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677-37A0-4BFF-8332-3711FBDA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6FE-C6A8-46D9-9D7D-07382B2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901-180C-483E-9626-D73A2D1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B5C-3B87-45B0-A77B-A71D5C1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2A9-F2FB-4930-9B34-389C7D4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5523-298A-45F3-B006-88DD6C180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A369-9955-44E4-8CBB-35911B6FE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e w zdobywaniu wiedzy, umiejętności, doświadc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walifikacji na europejskim rynku p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ieranie innowacyjnych praktyk zawodowych na poziomie inn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ż poziom szkolnictwa wyższ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prawa stopnia przejrzystości i uznawalności kwalifikacji ora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ompetencji w tym nabytych w drodze kształc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zaformal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ka branżowych języków obcych oraz dziedzictwa kulturowego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ństw europejsk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łówne obszary działa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że i wymi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większenie dostępu do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noszenie kwalifikacji pracow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prawa jakości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nie europejskiego wymiaru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ój poradnictwa zawodowego i dostępu do informacji zawodow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mobilnoś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młodzieży szkolnej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39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osób młodych pracowników i osób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zukujących pracy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2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ymiany doświadczeń dla nauczycieli, szkoleniowców,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radc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finansowanie do 100 % kosztów uprawnionych (od 1 do 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- prioryt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dniesienie atrakcyjności i jakości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ój i wdrażanie wspólnych narzędzi i rozwiązań w dziedzinie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angażowanie do współpracy wszystkich osób/podmiotów zainteresowanych kształceniem i doskonaleniem zawod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 ty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kół zawodowych i technicznych, ale również przedsiębiorstw, partnerów społecznych, decydentów z zakresu kształcenia i szkolenia zawodowego na szczeblu lokalnym, regionalnym i lub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ielostron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transferu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rzenie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2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3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Kto może składać wnios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szkoły zawodow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instytucje kształcenia ustawiczneg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firmy szkoleniow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rzedsiębiors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artnerzy społeczn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odmioty świadczące usługi doradztwa zawodowego i poradnic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non-pro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pozarzą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8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Transferu Innowacji - 14 marca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prawa jakości edukacji dorosłych i rozwój oferty edukacyj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dorosłych poprzez współpracę europejską, w tym mobilnoś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dry i słuchacz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powiadanie na wyzwania edukacyjne związane ze starzeni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ę populacji w Europi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pewnianie alternatywnych możliwości dostępu do eduk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sobom dorosłym z defaworyzowanych grup społecznych oraz tym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óre nie uzysk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ego wykształcenia formal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912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to może uczestniczyć w programi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UNDTVI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ażda organizacja działająca w obszarze eduk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ób 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oby dorosł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 Programie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od 25 roku ży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w wieku 16-24 lata, które zakończyły alb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zerw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ształcenie formalne lub korzystają z oferty edukacyjnej dl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matyka programu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dstawowe umiejętnoś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ktywne obywatel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ęzyki ob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środowisko i zrównoważony rozwó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ztuka i k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drowie i zagadnienia konsumenc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rodzic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w więzi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696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zykładow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ziałania programu GRUNDTVI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Wielostronn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(projekty na dużą skalę, służące opracowaniu innowacyjnych produktów edukacyjn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Partnerskie Grundtviga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ch celem jest rozszerzenie współpracy europejskiej pomiędzy mniejszymi organizacjami, mniej doświadczonymi we współpracy międzynarodowej, zajmującymi się edukacją dorosł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dywidualne wyjazdy szkoleniow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In-service Training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ants for Sta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ieci Grundtvi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31 stycznia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jekty 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sieci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1 – Młodzież dla Eur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2 – Wolontariat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3 – Młodzi w świe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4 – Systemy wspierania 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5 – Wsparcie dla współpracy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ajowych – kilkumiesięcznych przedsięwzięć młodzieży o charakterze lokalnym  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K</cp:lastModifiedBy>
  <dcterms:modified xsi:type="dcterms:W3CDTF">2007-12-06T05:43:40Z</dcterms:modified>
  <cp:revision>1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965048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