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DE19-F893-4EBF-9E80-8D382DD4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F1AB-418D-4314-BC27-75A58E5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2334-9D3A-420A-97A2-D9294DC7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0C43-5E94-404E-ABCC-8BD1072B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16E0-950B-426C-84C3-98F12565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0712-641B-4997-A47F-F0DAB7CD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73BA-9CA3-42D1-831C-2EB64B53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61AD6-32BE-40C8-9355-080050EB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C5C7-F43D-475C-B2FD-EE8F342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795C-084C-462D-BEC4-F9CD912E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C9E9-C82D-49D9-BBDC-62FF36B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4574-DF5A-46A0-8E00-DDE8F7BA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9B9C-82A5-4C44-99A4-8A0D6C85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5CB7-A58C-45CE-952F-4A2D10F5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791C-D7A7-410E-AE0F-EFFAE509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2CF5-709E-4291-A4B1-CB56B306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C2EF-2BA7-4B94-AA3E-6E553A7CB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B37A-B9D8-4C91-A669-CC0A912C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530-31B5-487C-8BEE-7B93400B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B36-21E8-4115-9A45-552D8E8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A83-2071-44DA-9DF1-5E69D78D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0E54-CD6C-4871-ACDA-94072F2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C60-90A3-4D68-83FF-DB4D4B8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0C87-6DFF-4CD1-BDA7-7B466E4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D64B-F9AE-45DB-8D40-F3CD03A1CB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73A3-062A-4AB5-A6AA-92DC326600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mrr.gov.pl/" TargetMode="External"/><Relationship Id="rId2" Type="http://schemas.openxmlformats.org/officeDocument/2006/relationships/hyperlink" Target="http://www.funduszestrukturalne.gov.pl/" TargetMode="External"/><Relationship Id="rId3" Type="http://schemas.openxmlformats.org/officeDocument/2006/relationships/hyperlink" Target="http://www.efs.gov.pl/" TargetMode="External"/><Relationship Id="rId4" Type="http://schemas.openxmlformats.org/officeDocument/2006/relationships/hyperlink" Target="http://www.malopolskie.pl/" TargetMode="External"/><Relationship Id="rId5" Type="http://schemas.openxmlformats.org/officeDocument/2006/relationships/hyperlink" Target="http://www.fundusze.malopolska.pl/" TargetMode="External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PROGRAM OPERACYJNY KAPITAŁ LUDZKI 2007-2013</a:t>
            </a:r>
            <a:br>
              <a:rPr sz="44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uro Funduszy Europejski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rzędu Miasta Krakow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0"/>
          <a:ext cx="3084480" cy="1461960"/>
        </p:xfrm>
        <a:graphic>
          <a:graphicData uri="http://schemas.openxmlformats.org/drawingml/2006/table">
            <a:tbl>
              <a:tblPr/>
              <a:tblGrid>
                <a:gridCol w="30844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9360" y="9360"/>
          <a:ext cx="163800" cy="4464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9360" y="455760"/>
          <a:ext cx="3065760" cy="996840"/>
        </p:xfrm>
        <a:graphic>
          <a:graphicData uri="http://schemas.openxmlformats.org/drawingml/2006/table">
            <a:tbl>
              <a:tblPr/>
              <a:tblGrid>
                <a:gridCol w="216000"/>
                <a:gridCol w="2633760"/>
                <a:gridCol w="216000"/>
              </a:tblGrid>
              <a:tr h="34992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90440" y="819000"/>
          <a:ext cx="2813040" cy="46368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5240" y="500040"/>
            <a:ext cx="9360" cy="95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0080" y="1136520"/>
            <a:ext cx="95040" cy="9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1600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 ramac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centr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środki zostaną przeznaczone przede wszystkim na wsparcie efektywności struktur i systemów instytucjonal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omiast środk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mponentu regionalne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zostaną w głównej mierze przeznaczone na wsparcie dla osób i grup społeczny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16080" y="189000"/>
            <a:ext cx="7675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26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ruktura programu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1647720"/>
            <a:ext cx="539640" cy="2633760"/>
          </a:xfrm>
          <a:prstGeom prst="flowChartProcess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centr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437000"/>
            <a:ext cx="563400" cy="2220840"/>
          </a:xfrm>
          <a:prstGeom prst="flowChartProcess">
            <a:avLst/>
          </a:prstGeom>
          <a:solidFill>
            <a:srgbClr val="cc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. regional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87440" y="1647720"/>
            <a:ext cx="7443360" cy="381240"/>
            <a:chOff x="1387440" y="1647720"/>
            <a:chExt cx="7443360" cy="381240"/>
          </a:xfrm>
        </p:grpSpPr>
        <p:sp>
          <p:nvSpPr>
            <p:cNvPr id="129" name=""/>
            <p:cNvSpPr/>
            <p:nvPr/>
          </p:nvSpPr>
          <p:spPr>
            <a:xfrm>
              <a:off x="1918080" y="1647720"/>
              <a:ext cx="6912720" cy="360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Zatrudnienie i integracja społecz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87440" y="1647720"/>
              <a:ext cx="455040" cy="3812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7440" y="2104920"/>
            <a:ext cx="7443360" cy="576360"/>
            <a:chOff x="1387440" y="2104920"/>
            <a:chExt cx="7443360" cy="576360"/>
          </a:xfrm>
        </p:grpSpPr>
        <p:sp>
          <p:nvSpPr>
            <p:cNvPr id="132" name=""/>
            <p:cNvSpPr/>
            <p:nvPr/>
          </p:nvSpPr>
          <p:spPr>
            <a:xfrm>
              <a:off x="1918080" y="2104920"/>
              <a:ext cx="691272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zasobów ludzkich i potencjału adaptacyjnego przedsiębiorstw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raz poprawa stanu zdrowia osób pracujący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87440" y="2104920"/>
              <a:ext cx="455040" cy="57636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387440" y="2790720"/>
            <a:ext cx="7443360" cy="381240"/>
            <a:chOff x="1387440" y="2790720"/>
            <a:chExt cx="7443360" cy="381240"/>
          </a:xfrm>
        </p:grpSpPr>
        <p:sp>
          <p:nvSpPr>
            <p:cNvPr id="135" name=""/>
            <p:cNvSpPr/>
            <p:nvPr/>
          </p:nvSpPr>
          <p:spPr>
            <a:xfrm>
              <a:off x="1918080" y="2790720"/>
              <a:ext cx="6912720" cy="35892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Wysoka jakość edukacj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87440" y="2790720"/>
              <a:ext cx="455040" cy="38124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387440" y="3781440"/>
            <a:ext cx="7443360" cy="456840"/>
            <a:chOff x="1387440" y="3781440"/>
            <a:chExt cx="7443360" cy="456840"/>
          </a:xfrm>
        </p:grpSpPr>
        <p:sp>
          <p:nvSpPr>
            <p:cNvPr id="138" name=""/>
            <p:cNvSpPr/>
            <p:nvPr/>
          </p:nvSpPr>
          <p:spPr>
            <a:xfrm>
              <a:off x="1918080" y="378144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obre rządze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87440" y="378144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387440" y="4459320"/>
            <a:ext cx="7443360" cy="533520"/>
            <a:chOff x="1387440" y="4459320"/>
            <a:chExt cx="7443360" cy="533520"/>
          </a:xfrm>
        </p:grpSpPr>
        <p:sp>
          <p:nvSpPr>
            <p:cNvPr id="141" name=""/>
            <p:cNvSpPr/>
            <p:nvPr/>
          </p:nvSpPr>
          <p:spPr>
            <a:xfrm>
              <a:off x="1918080" y="4459320"/>
              <a:ext cx="691272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ynek pracy otwarty dla wszystki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87440" y="4459320"/>
              <a:ext cx="455040" cy="5335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387440" y="5068800"/>
            <a:ext cx="7443360" cy="436320"/>
            <a:chOff x="1387440" y="5068800"/>
            <a:chExt cx="7443360" cy="436320"/>
          </a:xfrm>
        </p:grpSpPr>
        <p:sp>
          <p:nvSpPr>
            <p:cNvPr id="144" name=""/>
            <p:cNvSpPr/>
            <p:nvPr/>
          </p:nvSpPr>
          <p:spPr>
            <a:xfrm>
              <a:off x="1918080" y="5068800"/>
              <a:ext cx="691272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mocja integracji społecznej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87440" y="5068800"/>
              <a:ext cx="455040" cy="43632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387440" y="5602320"/>
            <a:ext cx="7443360" cy="456840"/>
            <a:chOff x="1387440" y="5602320"/>
            <a:chExt cx="7443360" cy="456840"/>
          </a:xfrm>
        </p:grpSpPr>
        <p:sp>
          <p:nvSpPr>
            <p:cNvPr id="147" name=""/>
            <p:cNvSpPr/>
            <p:nvPr/>
          </p:nvSpPr>
          <p:spPr>
            <a:xfrm>
              <a:off x="1918080" y="5602320"/>
              <a:ext cx="691272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gionalne kadry gospodark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387440" y="5602320"/>
              <a:ext cx="455040" cy="456840"/>
            </a:xfrm>
            <a:prstGeom prst="flowChartProcess">
              <a:avLst/>
            </a:prstGeom>
            <a:solidFill>
              <a:srgbClr val="cccc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387440" y="3247920"/>
            <a:ext cx="7443360" cy="456840"/>
            <a:chOff x="1387440" y="3247920"/>
            <a:chExt cx="7443360" cy="456840"/>
          </a:xfrm>
        </p:grpSpPr>
        <p:sp>
          <p:nvSpPr>
            <p:cNvPr id="150" name=""/>
            <p:cNvSpPr/>
            <p:nvPr/>
          </p:nvSpPr>
          <p:spPr>
            <a:xfrm>
              <a:off x="1918080" y="3247920"/>
              <a:ext cx="6912720" cy="43020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zkolnictwo wyższe i  nauk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87440" y="3247920"/>
              <a:ext cx="455040" cy="456840"/>
            </a:xfrm>
            <a:prstGeom prst="flowChartProcess">
              <a:avLst/>
            </a:prstGeom>
            <a:solidFill>
              <a:srgbClr val="ff99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387440" y="6135840"/>
            <a:ext cx="7443360" cy="532800"/>
            <a:chOff x="1387440" y="6135840"/>
            <a:chExt cx="7443360" cy="532800"/>
          </a:xfrm>
        </p:grpSpPr>
        <p:sp>
          <p:nvSpPr>
            <p:cNvPr id="153" name=""/>
            <p:cNvSpPr/>
            <p:nvPr/>
          </p:nvSpPr>
          <p:spPr>
            <a:xfrm>
              <a:off x="1918080" y="6135840"/>
              <a:ext cx="691272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ozwój wykształcenia i kompetencji w regiona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87440" y="6135840"/>
              <a:ext cx="455040" cy="532800"/>
            </a:xfrm>
            <a:prstGeom prst="flowChartProcess">
              <a:avLst/>
            </a:prstGeom>
            <a:solidFill>
              <a:srgbClr val="cc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CENTR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I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YSOKA JAK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Ć 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SYSTEMU O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Ś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IATY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1. Modernizacja systemu zarządzania i nadzoru w oświa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2 Rozwój systemu egzaminów zewnętrzny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3 Poprawa jakości kształc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4 Otwartość systemu edukacji w kontekście uczenia się przez całe ży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odziałanie 3.3.2 Efektywny system kształcenia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i doskonalenia nauczycieli -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ojekty konkursow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koły i placówki oświat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nistracja oświato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y prowadzące szkoły i placów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uratoria oświaty i inne instytucje realizujące nadzór pedagogi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two Edukacji Narodow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zygotowanie wybranych szkół do realizacji praktyk przez studentów przygotowywan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uchomienie nowego typu studiów wyższych i podyplomowych przygotowujących do wykonywania zawodu nauczyci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3.4 Modernizacja treści i metod kształcenia – projekty konkursowe</a:t>
            </a:r>
            <a:br>
              <a:rPr sz="38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 można realizować (typy projektów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racowanie i pilotażowe wdrożenie innowacyjnych programów, materiałów dydaktycznych i metod kształcenia dotyczących m.in. kształcenia w zakresie nauk matematycznych, przyrodniczych i technicznych oraz przedsiębiorczoś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adregionalne programy rozwijania kompetencji kluczowych uczniów w szczególności w zakresie: technologii  informacyjno-komunikacyjnych, języków obcych, przedsiębiorczości, nauk przyrodniczo – matematycz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Poddziałanie 3.4.3 Upowszechnienie uczenia się przez całe życie – projekty konkursow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ędzy innym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uczniow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uczyciele i doradcy zawodow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światowe prowadzące doradztwo edukacyjno-zawo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lacówki kształcenia i doskonalenia nauczycie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zkoły i placówki oświatowe oraz ich organy prowadzą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kuratoria oświ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narzędzi diagnostycznych i materiałów metodycznych wspomagających proces rozpoznawania predyspozycji i zainteresowań zawodowych uczni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owa systemu internetowej informacji edukacyjno-zawodowej oraz systemu internetowego poradnictwa edukacyjno-zawodowego (m.in. w ramach portalu edukacyjnego Scholar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ublikacja specjalistycznego biuletynu dla uczniów i doradców zawod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racowanie i pilotażowe wdrożenie programów doskonalenia zawodowego w przedsiębiorstwach dla nauczycieli kształcenia zawodow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OMPONENT REGIONALN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PRIORYTET IX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ROZWÓJ WYKSZTAŁCENIA I KOMPETENCJI </a:t>
            </a:r>
            <a:br>
              <a:rPr sz="2400"/>
            </a:b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W REGIONA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ziałan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1 Wyrównywanie szans edukacyjnych i zapewnienie wysokiej jakości usług  edukacyjnych świadczonych w systemie oświa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2 Podniesienie atrakcyjności i jakości szkolnictwa zawodow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3 Upowszechnienie formalnego kształcenia ustawiczne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4 Wysoko wykwalifikowane kadry systemu oświa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5 Oddolne inicjatywy edukacyjne na obszar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1 Zmniejszanie nierówno</a:t>
            </a:r>
            <a:r>
              <a:rPr b="0" lang="pl-PL" sz="2400" spc="-1" strike="noStrike">
                <a:solidFill>
                  <a:srgbClr val="990033"/>
                </a:solidFill>
                <a:latin typeface="Times New Roman"/>
              </a:rPr>
              <a:t>ś</a:t>
            </a: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ci w stopniu upowszechnienia edukacji przedszkolnej </a:t>
            </a:r>
            <a:r>
              <a:rPr b="1" i="1" lang="pl-PL" sz="2400" spc="-1" strike="noStrike">
                <a:solidFill>
                  <a:srgbClr val="990033"/>
                </a:solidFill>
                <a:latin typeface="Times New Roman"/>
              </a:rPr>
              <a:t>- projekty konkursowe    </a:t>
            </a: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luty 2008!!!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dzice dzieci w wieku przedszkolnym (3-5 l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niejące przedszk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 można realizować (typy projektó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rzenie ośrodków wychowania  przedszkolnego (w tym również realizacja alternatywnych form wychowania przedszkolnego) na obszarach i w środowiskach o niskim stopniu upowszechnienia edukacji przedszkolnej (obszarach szczególności na obszarach wiejsk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parcie istniejących przedszkoli przyczyniające się do zwiększonego uczestnictwa dzieci w wychowaniu przedszkolnym np. dłuższe godziny pracy przedszkoli, uruchomienie dodatkowego naboru dzieci, zatrudnienie persone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racowanie i realizacja kampanii informacyjnych promujących edukację przedszkol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okumenty program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gram Operacyjny Kapitał Ludzki na lata 2007-20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zczegółowy Opis Priorytetów PO K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18 września2007 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0033"/>
                </a:solidFill>
                <a:latin typeface="Times New Roman"/>
              </a:rPr>
              <a:t>Poddziałanie 9.1.2 Wyrównywanie szans edukacyjnych uczniów z grup o utrudnionym dostępie do edukacji oraz zmniejszanie różnic w jakości usług edukacyjnych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0033"/>
                </a:solidFill>
                <a:latin typeface="Times New Roman"/>
              </a:rPr>
              <a:t>NABóR – marzec 2008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akie projek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dodatkowe zajęcia dydaktyczno - wyrównawcze oraz specjalistyczne służące wyrównywaniu dysproporcji edukacyjnych w trakcie procesu kształce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radztwo i opiekę pedagogiczno – psychologiczną dla uczniów wykazujących problemy w nauce lub z innych przyczyn zagrożonych przedwczesnym wypadnięciem z systemu szkolnictwa (np. wsparcie dla uczniów z obszarów wiejskich, wsparcie dla uczniów niepełnosprawnych, przeciwdziałanie uzależnieniom, programy prewencyjne, przeciwdziałanie patologiom społeczny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   programy skierowane do dzieci i młodzieży, które znajdują się poza systemem szkolnictwa podstawowego, gimnazjalnego i ponadgimnazjalnego (przedwcześnie opuszczający system szkolnictwa) umożliwiające ukończenie danego etapu kształcenia oraz kontynuację nau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szerzanie oferty szkół o zagadnienia  związane z poradnictwem i doradztwem edukacyjno - zawodowym, informowaniem uczniów o korzyściach płynących z wyboru danej ścieżki edukacyjnej oraz możliwościach dalszego kształceni w kontekście uwarunkowań lokalnego i regionalnego rynku pracy (szkolne ośrodki kari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tkowe zajęcia (pozalekcyjne uczniów pozaszkolne) dla uczniów ukierunkowane na rozwój kompetencji kluczowych, ze szczególnym uwzględnieniem ICT, języków obcych, przedsiębiorczości, nauk przyrodniczo – matematyczny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LA KOGO?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zkoły (instytucje, kadra) i ich organy prowadzące realizujące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poradnie psychologiczno – pedagogi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uczniowie szkół podstawowych, gimnazjalnych, ponadgimnazjalnych i policealnych prowadzących kształcenie ogól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9.4 Wysoko wykwalifikowane kadry systemu oświaty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Nabór – styczeń 2008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upy docelowe (dla ko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czyciele i pracownicy dydaktyczni szkół i placówek oświatow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dra administracyjna i zarządzająca oświa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Times New Roman"/>
              </a:rPr>
              <a:t>Co można realizować (typy projektów):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 dla nauczycieli w zakresie zgodnym z lok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regional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ity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kacyj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 tym przygotowanie do nauczania drugiego przedmiotu lub rodzaju prowadzonych za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ę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ia podyplomowe, kursy i szkolenia oraz inne formy podwyższania kwalifikacji pracowników placówek kształcenia ustawicznego, praktycznego i doskonalenia zawodowego oraz instruktorów praktycznej nauki zaw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wyższe dla nauczycieli zainteresowanych  podwyższeniem lub uzupełnieniem posiadanego wykształce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udia podyplomowe i kursy doskona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e dla nauczycieli i pracowników administracj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 w zakresie organizacji, za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ania, finansowania oraz monitoringu działaln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i 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iat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gramy przekwalifikowania nauczycieli szkolnych w zw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ku ze zmie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ytu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mograficz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ni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kolny) w kierunku kształcenia ustawicznego (osób dorosły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zydatne strony internetow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www.mrr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www.funduszestrukturalne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3"/>
              </a:rPr>
              <a:t>www.efs.gov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4"/>
              </a:rPr>
              <a:t>www.malopolskie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5"/>
              </a:rPr>
              <a:t>www.fundusze.malopolska.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ział PO K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zewodnik po program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konkurs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je o szkoleniach i konferencj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ory załączników, oświadczeń i um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żne dokum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USZYŁY NABORY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 LISTOPADA Wojewódzki Urząd Pracy w Krakowie ogłosił konkursy na składanie wniosków o dofinansowanie w ram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VIII, Działanie 8.1, Poddziałanie 8.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szkolenia skierowane do osób pracujących powyżej 45 roku życia, które posiadają co najwyżej wykształcenie średnie i z własnej inicjatywy są zainteresowane nabyciem nowych, uzupełnieniem lub podwyższeniem kwalifikacji i umiejętności (w formach pozaszkolny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20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Priorytetu IX, Działanie 9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ddolne inicjatywy edukacyjne na obszarach wiejsk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Kwota na przeznaczona realizację projektów </a:t>
            </a:r>
            <a:r>
              <a:rPr b="1" lang="pl-PL" sz="1800" spc="-1" strike="noStrike">
                <a:solidFill>
                  <a:srgbClr val="b2b2b2"/>
                </a:solidFill>
                <a:latin typeface="Arial"/>
              </a:rPr>
              <a:t>- 1</a:t>
            </a:r>
            <a:r>
              <a:rPr b="1" lang="pl-PL" sz="1600" spc="-1" strike="noStrike">
                <a:solidFill>
                  <a:srgbClr val="b2b2b2"/>
                </a:solidFill>
                <a:latin typeface="Arial"/>
              </a:rPr>
              <a:t> 000 000 z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990033"/>
                </a:solidFill>
                <a:latin typeface="Arial"/>
              </a:rPr>
              <a:t>Termin składania wniosk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12 listopada 2007 r., godz. 8:00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2 stycznia 2008 r., godz. 16: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200" spc="-1" strike="noStrike">
                <a:solidFill>
                  <a:srgbClr val="330033"/>
                </a:solidFill>
                <a:latin typeface="Times New Roman"/>
              </a:rPr>
              <a:t>Informacja teleadresow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6200" y="1628280"/>
            <a:ext cx="7921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 II ( Instytucja Wdrążają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06800" y="2111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800" y="2492280"/>
            <a:ext cx="6892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UP Kraków Plac Na Stawach 1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efs@wup-krakow.pl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424 07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1480" y="4116240"/>
            <a:ext cx="74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Instytucja Pośredniczą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52880" y="4573440"/>
            <a:ext cx="0" cy="43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1480" y="4938840"/>
            <a:ext cx="7526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UMWM Kraków Wielicka 72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-mail: pokl@malopolska.mw.gov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tel. (12) 29 90 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ELE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em głównym Programu j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zrost zatrudnienia i spójności społeczne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siągnięcia tego celu przyczynia się realizacja celów strategicznych, do których należ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asowanie zasobów pracy do zmieniającej się sytuacji na rynku p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mniejszenie obszarów wykluczenia społeczneg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niesienie poziomu i jakości wykształcenia społecz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sparcie dla budowy sprawnego i partnerskiego państ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zrost spójności terytorialnej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bszary wsparcia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będzie koncentrował wsparcie na następujących obszar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trudni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kac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cja społecz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potencjału adaptacyjnego pracowników i przedsiębiorst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wą sprawnej i skutecznej administracji publ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zwój zasobów ludzkich na terenach wiejsk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awy zdrowotne pracownik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inansowani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gram Operacyjny Kapitał Ludzki finansowany będzie w 85 proc. ze środków Unii Europejskiej (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uropejskiego Funduszu Społeczneg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) oraz w 15 proc. ze środków krajow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ałość kwoty, jaką przewidziano na realizację Programu, wynosi prawie 11,5 mld euro, w tym wkład finansowy Europejskiego Funduszu Społecznego to ponad 9,7 mld  euro, a pozostałą część stanowią środki krajowe.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Środki finansowe PO K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1700280"/>
          <a:ext cx="7772400" cy="4349520"/>
        </p:xfrm>
        <a:graphic>
          <a:graphicData uri="http://schemas.openxmlformats.org/drawingml/2006/table">
            <a:tbl>
              <a:tblPr/>
              <a:tblGrid>
                <a:gridCol w="5818320"/>
                <a:gridCol w="1954080"/>
              </a:tblGrid>
              <a:tr h="102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program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50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centr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na realizację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regional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0 mld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Środki finansowe dla MAŁOPOLS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 mld. eu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 rot="8074200">
            <a:off x="5644440" y="5505120"/>
            <a:ext cx="1428840" cy="1307880"/>
          </a:xfrm>
          <a:prstGeom prst="wedgeEllipseCallout">
            <a:avLst>
              <a:gd name="adj1" fmla="val -101337"/>
              <a:gd name="adj2" fmla="val -284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 stanowi 8,32 % środk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rządzanie programe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ą Zarządzającą PO KL jest minister właściwy ds. rozwoju regionalnego, który wykonuje swoje funkcje przy pomocy Departamentu Zarządzania Europejskim Funduszem Społecznym w Ministerstwie Rozwoju Regionalnego.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tytucja Zarządzająca przekaże realizację części swoich zadań Instytucjom Pośredniczącym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, II – minister właściwy ds. pracy i polityki społe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II - minister właściwy ds. oświaty i wychowania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IV - minister właściwy ds. szkolnictwa wyższego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 - minister właściwy ds. administracji publicznej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iorytet VI – IX - zadania są delegowane do poszczególnych Samorządów Województ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System wdrażania POKL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w Województwie Małopolskim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podstawie Uchwały nr 54/07 Zarządu Województwa Małopolskiego z dnia 5 lutego 2007 roku dokonano podziału obowiązków w procesie wdrażania PO KL w Województwie Małopols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Pośredniczącej pełni Departament Polityki Regionalnej Urzędu Marszałkowski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dania Instytucji Wdrażającej /IP 2 pełni Wojewódzki Urząd Pracy w Krakow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ALIZACJA PROGRAM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ramach PO KL przewiduje się realizację projektu w dwóch trybach: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ystemowym i konkursowym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trybie systemowym projekty są realizowane przez beneficjentów imiennie wskazanych w Programie lub dodatkowych dokumentach stanowiących jego uszczegółowi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tomiast w trybie konkursowym projekty będą mogły realizować wszystkie podmioty m.in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rynku pra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zkoleni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dnostki administracji rządowej i samorządowej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zedsiębiorcy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otoczenia biznesu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rganizacje pozarządowe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stytucje systemu oświaty i szkolnictwa wyższego,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ne podmio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ormacje na temat procedur wyboru projektów zawarte są w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lanie działani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corocznie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przygotowywanym przez IP dla każdego  Priorytetu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0:23:13Z</dcterms:created>
  <dc:creator>ania</dc:creator>
  <dc:description/>
  <dc:language>en-US</dc:language>
  <cp:lastModifiedBy>ania</cp:lastModifiedBy>
  <dcterms:modified xsi:type="dcterms:W3CDTF">2007-12-06T10:02:04Z</dcterms:modified>
  <cp:revision>21</cp:revision>
  <dc:subject/>
  <dc:title>PROGRAM OPERACYJNY KAPITAŁ LUDZKI 2007-2013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118395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