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440C-21C2-424F-96A6-D1269FA78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5ECE-9D35-4321-827C-E562B870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241F-9F17-4E38-819B-80551001B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DD36-B2FB-4115-B8ED-E05AF2ABF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F6FA-A800-40E2-9E01-2FAEBA969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1309-2B28-4543-BEBC-24F5EC87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D4F9-43C3-4F6C-BF65-65FF941D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E25C-D3B5-46A9-A9FA-D0C1284E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7563-8098-4182-92E3-24075212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DC8A-7E89-4767-A41A-009F775F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4056-E33D-4889-9E1C-B5FEC94B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D042-BBE3-4D4F-96B1-A4E1139A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86CA-9C09-44BF-8272-BCF7B631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8B64-6BCC-49E0-9A03-CEA87E78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349C-2CDE-4BDB-9D05-A6DD9787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0A94-E699-430B-88A8-BA5F7E42D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B108-A1AB-4B82-80DD-984A61979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2AEF-65DA-4F1F-9BBC-C8F284AB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AA8D-BE58-4DDB-BA1F-B11AFAC0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A789-7DC0-4693-93CA-3C7A48EB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1D75-D84E-4E7D-9116-8C732698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BF9F-D0F5-495E-A544-887BD549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B2B4-2F6F-4BC5-8A41-AA72BAF9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184D-75E9-4F84-98F2-2CAFFB4A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7B06-C4BB-448B-808D-515F58CA945C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9108-3C2A-4C73-8AA5-D672CB5344C6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PROJEKT – od pomysłu do realizacji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URO FUNDUSZY EUROPEJSK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ZĘDU MIASTA KRAKO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4888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1640" y="907920"/>
            <a:ext cx="712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łuży realizacji określonego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el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06560" y="1700280"/>
            <a:ext cx="8137440" cy="28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ie realizujemy go tylko dla samej realizacj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jekt jest zawsze częścią większego planu (programu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24000" y="260280"/>
            <a:ext cx="81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osiada skoordynowane i wzajemnie powiązane ze sobą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dział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1773360"/>
            <a:ext cx="8520120" cy="49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izacja projektu wymaga podejmowania określonych działa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ektóre z nich są ze sobą powiązane w ten sposób, że podjęcie jednego wymaga zakończenia inn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ą też działania, które można prowadzić równole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 więcej powiązanych działań tym bardziej złożony i trudniejszy jest proje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95280" y="836640"/>
            <a:ext cx="83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Jest ograniczone w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zasie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oraz posiada określony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udżet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zaso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752480"/>
            <a:ext cx="914400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żdy projekt ma jasno określony początek i koni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zędziem które pomaga pilnować czasu trwania projektu jest harmon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żdy projekt ma przypisany określony budżet i zasoby (ludzkie, materiałowe), które określają jego ra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042920" y="0"/>
            <a:ext cx="58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a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yjątkowy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charak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836640"/>
            <a:ext cx="8610480" cy="45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kt jest przedsięwzięciem którego nie realizujemy codzien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est przedsięwzięciem dużym, o określonym stopniu trudności i zwykle nie jest przedsięwzięciem powtarzalny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żdy projekt funkcjonuje w innych uwarunkowaniach wewnętrznych i zewnętrzn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675972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onstrukcja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5800" y="1066680"/>
          <a:ext cx="3817800" cy="2308320"/>
        </p:xfrm>
        <a:graphic>
          <a:graphicData uri="http://schemas.openxmlformats.org/drawingml/2006/table">
            <a:tbl>
              <a:tblPr/>
              <a:tblGrid>
                <a:gridCol w="3817800"/>
              </a:tblGrid>
              <a:tr h="115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4f57"/>
                    </a:solidFill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YFIKAC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c27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648320" y="1066680"/>
          <a:ext cx="3886200" cy="230508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115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4f57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OWAN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c27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130400" y="2994120"/>
          <a:ext cx="3598920" cy="2355840"/>
        </p:xfrm>
        <a:graphic>
          <a:graphicData uri="http://schemas.openxmlformats.org/drawingml/2006/table">
            <a:tbl>
              <a:tblPr/>
              <a:tblGrid>
                <a:gridCol w="3598920"/>
              </a:tblGrid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4f57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ZAC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c27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4944960" y="3078000"/>
          <a:ext cx="3597480" cy="2355840"/>
        </p:xfrm>
        <a:graphic>
          <a:graphicData uri="http://schemas.openxmlformats.org/drawingml/2006/table">
            <a:tbl>
              <a:tblPr/>
              <a:tblGrid>
                <a:gridCol w="3597480"/>
              </a:tblGrid>
              <a:tr h="11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4f57"/>
                    </a:solidFill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c27d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2971800" y="1828800"/>
            <a:ext cx="3816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895480" y="1828800"/>
            <a:ext cx="3743280" cy="2303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4114800"/>
            <a:ext cx="3816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2111400"/>
            <a:ext cx="720720" cy="2232000"/>
          </a:xfrm>
          <a:custGeom>
            <a:avLst/>
            <a:gdLst>
              <a:gd name="textAreaLeft" fmla="*/ 211680 w 720720"/>
              <a:gd name="textAreaRight" fmla="*/ 721080 w 720720"/>
              <a:gd name="textAreaTop" fmla="*/ 92880 h 2232000"/>
              <a:gd name="textAreaBottom" fmla="*/ 213912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914400" y="1219320"/>
          <a:ext cx="3809880" cy="418464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829"/>
                    </a:solidFill>
                  </a:tcPr>
                </a:tc>
              </a:tr>
              <a:tr h="31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YFIKAC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fa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876920" y="1219320"/>
          <a:ext cx="3563640" cy="4176360"/>
        </p:xfrm>
        <a:graphic>
          <a:graphicData uri="http://schemas.openxmlformats.org/drawingml/2006/table">
            <a:tbl>
              <a:tblPr/>
              <a:tblGrid>
                <a:gridCol w="3563640"/>
              </a:tblGrid>
              <a:tr h="112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reślenie potrze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żliwość ich    zaspokojen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niesienie do dokumentów planistyczny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75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onstrukcja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609480" y="1295280"/>
          <a:ext cx="3810240" cy="4523040"/>
        </p:xfrm>
        <a:graphic>
          <a:graphicData uri="http://schemas.openxmlformats.org/drawingml/2006/table">
            <a:tbl>
              <a:tblPr/>
              <a:tblGrid>
                <a:gridCol w="3810240"/>
              </a:tblGrid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829"/>
                    </a:solidFill>
                  </a:tcPr>
                </a:tc>
              </a:tr>
              <a:tr h="343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OWAN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fa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4572000" y="1295280"/>
          <a:ext cx="3665520" cy="4515120"/>
        </p:xfrm>
        <a:graphic>
          <a:graphicData uri="http://schemas.openxmlformats.org/drawingml/2006/table">
            <a:tbl>
              <a:tblPr/>
              <a:tblGrid>
                <a:gridCol w="3665520"/>
              </a:tblGrid>
              <a:tr h="164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nia i harmonogr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ż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pa zarządzają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759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onstrukcja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685800" y="1295280"/>
          <a:ext cx="3809880" cy="452304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829"/>
                    </a:solidFill>
                  </a:tcPr>
                </a:tc>
              </a:tr>
              <a:tr h="343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ZAC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fa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4572000" y="1295280"/>
          <a:ext cx="3809880" cy="452592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drażanie działa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ing wynikó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zowanie zagroże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759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onstrukcja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609480" y="1143000"/>
          <a:ext cx="3810240" cy="4522680"/>
        </p:xfrm>
        <a:graphic>
          <a:graphicData uri="http://schemas.openxmlformats.org/drawingml/2006/table">
            <a:tbl>
              <a:tblPr/>
              <a:tblGrid>
                <a:gridCol w="3810240"/>
              </a:tblGrid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829"/>
                    </a:solidFill>
                  </a:tcPr>
                </a:tc>
              </a:tr>
              <a:tr h="343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fa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4495680" y="1143000"/>
          <a:ext cx="3665520" cy="4518000"/>
        </p:xfrm>
        <a:graphic>
          <a:graphicData uri="http://schemas.openxmlformats.org/drawingml/2006/table">
            <a:tbl>
              <a:tblPr/>
              <a:tblGrid>
                <a:gridCol w="3665520"/>
              </a:tblGrid>
              <a:tr h="14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ównanie efektó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rezultatam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a niezgodności – działania korygują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we życie” proje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6759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onstrukcja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990033"/>
                </a:solidFill>
                <a:latin typeface="Arial"/>
              </a:rPr>
              <a:t>WYPEŁNIANIE WNIOSKU CZAS ZACZĄĆ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4200"/>
            </a:b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CHARAKTERYSTYKA PROJEKTU</a:t>
            </a:r>
            <a:br>
              <a:rPr sz="4200"/>
            </a:br>
            <a:br>
              <a:rPr sz="4200"/>
            </a:b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3. Opis projektu wraz  </a:t>
            </a:r>
            <a:br>
              <a:rPr sz="4200"/>
            </a:b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z uzasadnienie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0033"/>
                </a:solidFill>
                <a:latin typeface="Times New Roman"/>
              </a:rPr>
              <a:t>3.1 Miejsce realizacji projektu</a:t>
            </a:r>
            <a:r>
              <a:rPr b="0" lang="en-GB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1.1 Województwo – Małopolsk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1.2 Powi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1.3 Gm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1.4 Miejscowoś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1.5 Projekt realizowany poza granicami kra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ybór z rozwijanej lis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0033"/>
                </a:solidFill>
                <a:latin typeface="Times New Roman"/>
              </a:rPr>
              <a:t>3.2 </a:t>
            </a: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Rodzaj projektu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bór</a:t>
            </a:r>
            <a:r>
              <a:rPr b="0" lang="en-US" sz="2400" spc="-1" strike="noStrike">
                <a:solidFill>
                  <a:srgbClr val="000000"/>
                </a:solidFill>
                <a:latin typeface="TTE1438830t00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rozwijanej listy typu projektu zgodnie z list</a:t>
            </a:r>
            <a:r>
              <a:rPr b="0" lang="en-US" sz="2400" spc="-1" strike="noStrike">
                <a:solidFill>
                  <a:srgbClr val="000000"/>
                </a:solidFill>
                <a:latin typeface="TTE1438830t00"/>
              </a:rPr>
              <a:t>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ewidzian</a:t>
            </a:r>
            <a:r>
              <a:rPr b="0" lang="en-US" sz="2400" spc="-1" strike="noStrike">
                <a:solidFill>
                  <a:srgbClr val="000000"/>
                </a:solidFill>
                <a:latin typeface="TTE1438830t00"/>
              </a:rPr>
              <a:t>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Uszczegółowieniu MRPO dla danego Działa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przypadku, je</a:t>
            </a:r>
            <a:r>
              <a:rPr b="0" lang="en-US" sz="2400" spc="-1" strike="noStrike">
                <a:solidFill>
                  <a:srgbClr val="000000"/>
                </a:solidFill>
                <a:latin typeface="TTE1438830t00"/>
              </a:rPr>
              <a:t>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 projekt nie wpisuje si</a:t>
            </a:r>
            <a:r>
              <a:rPr b="0" lang="en-US" sz="2400" spc="-1" strike="noStrike">
                <a:solidFill>
                  <a:srgbClr val="000000"/>
                </a:solidFill>
                <a:latin typeface="TTE1438830t00"/>
              </a:rPr>
              <a:t>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przykładowe rodzaje projektów wskazane w Uszczegółowieniu MRPO, Beneficjent ma możliwo</a:t>
            </a:r>
            <a:r>
              <a:rPr b="0" lang="en-US" sz="2400" spc="-1" strike="noStrike">
                <a:solidFill>
                  <a:srgbClr val="000000"/>
                </a:solidFill>
                <a:latin typeface="TTE1438830t00"/>
              </a:rPr>
              <a:t>ś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pisania dodatkowego rodzaju projektu, który musi by</a:t>
            </a:r>
            <a:r>
              <a:rPr b="0" lang="en-US" sz="2400" spc="-1" strike="noStrike">
                <a:solidFill>
                  <a:srgbClr val="000000"/>
                </a:solidFill>
                <a:latin typeface="TTE1438830t00"/>
              </a:rPr>
              <a:t>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ójny z celami danego działan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przypadku wpisania dodatkowego rodzaju projektu Beneficjent zobowi</a:t>
            </a:r>
            <a:r>
              <a:rPr b="0" lang="en-US" sz="2400" spc="-1" strike="noStrike">
                <a:solidFill>
                  <a:srgbClr val="000000"/>
                </a:solidFill>
                <a:latin typeface="TTE1438830t00"/>
              </a:rPr>
              <a:t>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ny jest do przedstawienia stosownego uzasadnienia w odniesieniu do zgodno</a:t>
            </a:r>
            <a:r>
              <a:rPr b="0" lang="en-US" sz="2400" spc="-1" strike="noStrike">
                <a:solidFill>
                  <a:srgbClr val="000000"/>
                </a:solidFill>
                <a:latin typeface="TTE1438830t00"/>
              </a:rPr>
              <a:t>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 projektu z celami danego działania programu,  które b</a:t>
            </a:r>
            <a:r>
              <a:rPr b="0" lang="en-US" sz="2400" spc="-1" strike="noStrike">
                <a:solidFill>
                  <a:srgbClr val="000000"/>
                </a:solidFill>
                <a:latin typeface="TTE1438830t00"/>
              </a:rPr>
              <a:t>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zie poddane weryfikacji na etapie oceny formalnej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0033"/>
                </a:solidFill>
                <a:latin typeface="Times New Roman"/>
              </a:rPr>
              <a:t>3.3 </a:t>
            </a: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Tło i uzasadnienie konieczności realizacji projektu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i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tanu istniejącego (równi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z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mocą danych liczbowych), z którego wynika potrzeba zareagowania na problem, bądź 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unięcia skutków zaistniałych problemó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 punkcie tym nal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 wykazać równi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godność zał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ń projektu ze Strategią Rozwoju Województwa na lata 2007-2013 oraz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 innymi, właściwymi ze względu na zakres projektu strategiami lokalnymi lub sektorowy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x. 4 tyś znaków ze spacj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0033"/>
                </a:solidFill>
                <a:latin typeface="Times New Roman"/>
              </a:rPr>
              <a:t>3.4 </a:t>
            </a: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Opis projektu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s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 będzie przedmiotem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jektu, przedstaw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eni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ział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podejmow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ych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 projekcie, produkt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ów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projektu (przy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ykorzystaniu danych liczbowych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is musi jednoznacznie identyfikować przedmiot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jektu i jasno określać jego zakres rzeczow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Max. 4 tyś. znaków ze spacj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3.5 Informacja nt. stanu przygotowania projektu do realizacji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s stanu zaawansowania prac nad projektem. Należy odznaczyć właściwą opcj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3.5.1 Dla projektów wymagających pozwolenia na budowę / zgłoszenia robót oraz dla projektów typu „zaprojektuj i wybuduj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3.5.2 Dla projektów dotyczących dost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3.5.3 Dla projektów nieinwestycyjn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3.6 Inne podmioty zaangażowane </a:t>
            </a:r>
            <a:br>
              <a:rPr sz="4000"/>
            </a:b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w realizację projektu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 przypadku realizacji projektu w formule partnerstwa należy wymienić nazwy instytucji uczestniczących w realizacji zadania wraz z krótkim opisem charakteru ich zaangażowan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 przypadku związków i porozumień zawieranych pomiędzy jednostkami samorządu terytorialnego należy wskazać podmioty zaangażowane, typ partnerstwa oraz krótko opisać charakter ich zaangażowa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3.7 Cele projektu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s długofalowego oddziaływania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ykazanie zgodności celów projektu z „Celami działania” opisanymi dla konkretnego działania w Uszczegółowieniu MR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achowanie spójności z punktem 5.2 – Wskaźniki rezultatu realizacji projektu, oraz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 matrycą logiczn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Max 4 tyś. znaków ze spacj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4. Okres realizacji projektu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4.1 Planowany termin rozpoczęcia projektu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 ujęciu miesięczny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4.2 Planowany termin zakończenia rzeczowego i finansowego realizacji projektu w ujęciu miesięczny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4.3 Uzasadnienie w przypadku przekroczenia 24 miesięcznego okresu (max. do 36 miesięcy), np. względy techniczne lub technologiczne, które uniemożliwiają realizację projektu w czasie krótszym niż 24 miesią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5. Wskaźniki realizacji projektu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5.1 Wskaźniki produktu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- bezpośredni, materialny efekt realizacji przedsięwzięcia mierzony konkretnymi wielkościami, np. 4 km zmodernizowanej drogi, 1 wybudowany obiekt sportow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5.2 Wskaźniki rezultatu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– wpływ zrealizowanego przedsięwzięcia na otoczenie społeczno – ekonomiczne uzyskany bezpośrednio po zakończeniu realizacji projektu, np. skrócenie czasu przejazdu, liczba użytkownikó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1 zasada pracy nad projektem mówi, że </a:t>
            </a:r>
            <a:r>
              <a:rPr b="0" lang="pl-PL" sz="2000" spc="-1" strike="noStrike">
                <a:solidFill>
                  <a:srgbClr val="990033"/>
                </a:solidFill>
                <a:latin typeface="Arial"/>
              </a:rPr>
              <a:t>NIE WOLNO ZACZYNAĆ OD WYPEŁNIANIA WNIOSKU O DOFINANSOWANIE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nim zaczniesz wypełniać wniosek o dofinansowanie znajdź odpowiedź na pytan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 chcesz zrobić i po co? (opis projektu z podziałem na cele, działania i rezulta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laczego warto się tego podjąć? (uzasadnien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la kogo są przeznaczone te działania? (beneficjenci ostatecz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Jak ma wyglądać organizacja prac? (zarządzan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to jest potrzebny do zrealizowania zadań? (zespó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le to będzie kosztowało i jak to chcesz sfinansować? (budż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 chcesz osiągnąć i jak to sprawdzisz? (wskaźniki, monito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 może Ci przeszkadzać w realizacji projektu? (ryzyk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6. Planowane wydatki projektu</a:t>
            </a:r>
            <a:r>
              <a:rPr b="0" lang="en-GB" sz="40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   (liczbowo i słownie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6.1 Całkowita wartość projektu (brutto) – suma kosztów kwalifikowanych i niekwalifikowanych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6.2 Całkowita wartość kosztów kwalifikowany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 koszty przygotowawcze (np. dokumentacja techniczna, przygotowanie postępowania w zakresie zamówienia publicznego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 koszty inwestycyjne (roboty budowlane, montażowe, zakup sprzętu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 pozostałe koszty (np. promoc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 koszty szkoleniowe w ramach cross- financing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6.3 Całkowita wartość kosztów niekwalifikowanych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7. Źródła finansowania projektu</a:t>
            </a:r>
            <a:r>
              <a:rPr b="0" lang="pl-PL" sz="3800" spc="-1" strike="noStrike">
                <a:solidFill>
                  <a:srgbClr val="330033"/>
                </a:solidFill>
                <a:latin typeface="Times New Roman"/>
              </a:rPr>
              <a:t> (koszty kwalifikowane, zob. punkt 6.2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1 Wnioskowana kwota dofinansowani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EFRR w ujęciu kwotowym i procentowy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2 Wkład krajowy to suma środkó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7.2.1 Wkład własny beneficj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7.2.2 Inne źródła dofinansow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3 Opis źródeł pokrycia krajowego wkładu do projektu (o których mowa w punkcie 7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8. Pomoc publiczna uzyskana </a:t>
            </a:r>
            <a:br>
              <a:rPr sz="4000"/>
            </a:b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 i planowana do uzyskania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skazanie czy na realizację przedmiotow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ktu uzyskał do tej pory wsparcie w formie pomocy publiczn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9. Trwałość projektu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1 Sposób wykorzystania i finansowania projektu po zakończeniu jego realizac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posób wykorzystania i finansowania projektu po zakończeniu jego realizacj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jaka jest zdolność instytucjonalna Beneficjenta do realizacji projektu (jakie jest jego doświadcz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struktura organizacyjna gwarantująca prawidłowe utrzymanie produktów projekt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2 Czy przewidywane są dochody w trakcie realizacji projektu i/lub po jego zakończeniu (TAK/N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10. Dodatkowe informacje wymagane regulaminem konkursu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nkt ten przeznaczony jest na dodatkowe informacje wymagane regulaminem konkursu dla poszczególnych Działań MR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11. Załączniki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nkt ten służy identyfikacji załączników dostarczanych jako uzupełnienie informacji zawartych w karcie lub też wymaganych zapisami programu operacyjnego i/lub regulaminem konkurs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leży wybrać z listy rozwijanej odpowiednie załączniki dołączone do karty projektowe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550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Kwestie formalne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532720" cy="47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zed wypełnieniem wniosku przeczytaj INSTRUKCJĘ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razie wątpliwości skontaktuj się z jednostką przyjmując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niecznie zapoznaj się z programem, szczegółowo przeanalizuj uzasadnienia i cele priorytetów oraz działań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iosek wypełnij starannie, odpowiedz na wszystkie pytania w sposób konkretny, czytelny i wyczerpując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wróć uwagę na rodzaj czcionki, sposób podpisania wniosku (niebieski tusz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pisują tylko upoważnione osob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łącz wszystkie załączniki dla swojej kategori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5818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Najczęstsze błęd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7487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stosowanie obowiązującego formular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kładanie wniosku w sposób niezgodny z regulaminem konkursu (z reguły regulaminy stanowią o sposobie oznaczenia wniosku, liczbie wymaganych kopii itp.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kładanie wniosku po wyznaczonym termini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udzielenie odpowiedzi na wszystkie pytania wniosku bądź udzielenie odpowiedzi niezgodnej z treścią pytani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łożenie wniosku przez nieuprawnionego projektodawcę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spójności logicznej treści wniosk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dołączenie wszystkich wymaganych załącznikó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5818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Najczęstsze błęd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74872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zgodność z instrukcją wypełniania wnios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dpis osoby nieupoważnion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cech projektu (nierozwojowe przedsięwzię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zgodność z wymaganiam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óżnice oryginał – kop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paraf, brak potwierdzenia za zgodność z oryginał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płynności finansowej projektodaw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wiedzy i doświadcz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gotowości do realizac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zy to takie trudne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5280" y="1052640"/>
            <a:ext cx="783756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95280" y="1628640"/>
            <a:ext cx="8555040" cy="4767120"/>
            <a:chOff x="395280" y="1628640"/>
            <a:chExt cx="8555040" cy="476712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6386400" y="1704960"/>
              <a:ext cx="2563920" cy="46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2"/>
            <a:stretch/>
          </p:blipFill>
          <p:spPr>
            <a:xfrm>
              <a:off x="2224080" y="4066920"/>
              <a:ext cx="2743200" cy="19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3"/>
            <a:stretch/>
          </p:blipFill>
          <p:spPr>
            <a:xfrm>
              <a:off x="395280" y="1628640"/>
              <a:ext cx="1752480" cy="22096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10" name=""/>
            <p:cNvCxnSpPr/>
            <p:nvPr/>
          </p:nvCxnSpPr>
          <p:spPr>
            <a:xfrm>
              <a:off x="395280" y="3227760"/>
              <a:ext cx="1829520" cy="2305440"/>
            </a:xfrm>
            <a:prstGeom prst="curvedConnector5">
              <a:avLst>
                <a:gd name="adj1" fmla="val 1889"/>
                <a:gd name="adj2" fmla="val 49992"/>
                <a:gd name="adj3" fmla="val 1889"/>
              </a:avLst>
            </a:prstGeom>
            <a:ln w="47520">
              <a:solidFill>
                <a:srgbClr val="ffcc00"/>
              </a:solidFill>
              <a:miter/>
              <a:headEnd len="med" type="oval" w="med"/>
              <a:tailEnd len="med" type="triangle" w="med"/>
            </a:ln>
          </p:spPr>
        </p:cxnSp>
        <p:cxnSp>
          <p:nvCxnSpPr>
            <p:cNvPr id="211" name=""/>
            <p:cNvCxnSpPr>
              <a:stCxn id="208" idx="2"/>
              <a:endCxn id="207" idx="1"/>
            </p:cNvCxnSpPr>
            <p:nvPr/>
          </p:nvCxnSpPr>
          <p:spPr>
            <a:xfrm flipH="1" flipV="1" rot="5400000">
              <a:off x="4012200" y="3633840"/>
              <a:ext cx="1958040" cy="2791440"/>
            </a:xfrm>
            <a:prstGeom prst="curvedConnector5">
              <a:avLst>
                <a:gd name="adj1" fmla="val -11677"/>
                <a:gd name="adj2" fmla="val 37275"/>
                <a:gd name="adj3" fmla="val -11677"/>
              </a:avLst>
            </a:prstGeom>
            <a:ln w="44280">
              <a:solidFill>
                <a:srgbClr val="ffcc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Times New Roman"/>
              </a:rPr>
              <a:t>Logika interwencji projektu</a:t>
            </a:r>
            <a:endParaRPr b="0" lang="en-US" sz="2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1760" y="5573880"/>
            <a:ext cx="1037160" cy="520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 Narrow"/>
              </a:rPr>
              <a:t>Wkł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17320" y="5668920"/>
            <a:ext cx="149148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0033"/>
                </a:solidFill>
                <a:latin typeface="Arial Narrow"/>
              </a:rPr>
              <a:t>Dział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0033"/>
                </a:solidFill>
                <a:latin typeface="Arial Narrow"/>
              </a:rPr>
              <a:t>(activit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89800" y="4262400"/>
            <a:ext cx="210384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 Narrow"/>
              </a:rPr>
              <a:t>Produ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Arial Narrow"/>
              </a:rPr>
              <a:t>(dobra i usług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47640" y="2205000"/>
            <a:ext cx="3276720" cy="143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 Narrow"/>
              </a:rPr>
              <a:t>Rezulta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Arial Narrow"/>
              </a:rPr>
              <a:t>(bezpośrednie i natychmiastowe efek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04800" y="549360"/>
            <a:ext cx="3353040" cy="100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 Narrow"/>
              </a:rPr>
              <a:t>Oddziaływa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Arial Narrow"/>
              </a:rPr>
              <a:t>(długoterminowe efek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95560" y="3728880"/>
            <a:ext cx="304920" cy="381240"/>
          </a:xfrm>
          <a:prstGeom prst="upArrow">
            <a:avLst>
              <a:gd name="adj1" fmla="val 41667"/>
              <a:gd name="adj2" fmla="val 3125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5649840"/>
            <a:ext cx="838080" cy="304920"/>
          </a:xfrm>
          <a:prstGeom prst="rightArrow">
            <a:avLst>
              <a:gd name="adj1" fmla="val 42704"/>
              <a:gd name="adj2" fmla="val 5257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95560" y="5253120"/>
            <a:ext cx="304920" cy="380880"/>
          </a:xfrm>
          <a:prstGeom prst="upArrow">
            <a:avLst>
              <a:gd name="adj1" fmla="val 41667"/>
              <a:gd name="adj2" fmla="val 3122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95560" y="1671480"/>
            <a:ext cx="304920" cy="381240"/>
          </a:xfrm>
          <a:prstGeom prst="upArrow">
            <a:avLst>
              <a:gd name="adj1" fmla="val 41667"/>
              <a:gd name="adj2" fmla="val 3125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416720" y="824040"/>
            <a:ext cx="304920" cy="4038480"/>
          </a:xfrm>
          <a:custGeom>
            <a:avLst/>
            <a:gdLst>
              <a:gd name="textAreaLeft" fmla="*/ 0 w 304920"/>
              <a:gd name="textAreaRight" fmla="*/ 110160 w 30492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835520" y="776160"/>
            <a:ext cx="533160" cy="4038480"/>
            <a:chOff x="4835520" y="776160"/>
            <a:chExt cx="533160" cy="4038480"/>
          </a:xfrm>
        </p:grpSpPr>
        <p:sp>
          <p:nvSpPr>
            <p:cNvPr id="113" name=""/>
            <p:cNvSpPr/>
            <p:nvPr/>
          </p:nvSpPr>
          <p:spPr>
            <a:xfrm>
              <a:off x="4911480" y="4510080"/>
              <a:ext cx="457200" cy="304560"/>
            </a:xfrm>
            <a:prstGeom prst="rightArrow">
              <a:avLst>
                <a:gd name="adj1" fmla="val 42704"/>
                <a:gd name="adj2" fmla="val 2871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35520" y="2681280"/>
              <a:ext cx="457200" cy="304560"/>
            </a:xfrm>
            <a:prstGeom prst="rightArrow">
              <a:avLst>
                <a:gd name="adj1" fmla="val 42704"/>
                <a:gd name="adj2" fmla="val 2871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35520" y="776160"/>
              <a:ext cx="457200" cy="304920"/>
            </a:xfrm>
            <a:prstGeom prst="rightArrow">
              <a:avLst>
                <a:gd name="adj1" fmla="val 42704"/>
                <a:gd name="adj2" fmla="val 28683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5659200" y="4292640"/>
            <a:ext cx="1604160" cy="947160"/>
          </a:xfrm>
          <a:prstGeom prst="rect">
            <a:avLst/>
          </a:prstGeom>
          <a:solidFill>
            <a:srgbClr val="e468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 Narrow"/>
              </a:rPr>
              <a:t>Ce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 Narrow"/>
              </a:rPr>
              <a:t>operacyj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87200" y="2421000"/>
            <a:ext cx="1541520" cy="947160"/>
          </a:xfrm>
          <a:prstGeom prst="rect">
            <a:avLst/>
          </a:prstGeom>
          <a:solidFill>
            <a:srgbClr val="e468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 Narrow"/>
              </a:rPr>
              <a:t>Ce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 Narrow"/>
              </a:rPr>
              <a:t>cząstkow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59560" y="620640"/>
            <a:ext cx="1052280" cy="947160"/>
          </a:xfrm>
          <a:prstGeom prst="rect">
            <a:avLst/>
          </a:prstGeom>
          <a:solidFill>
            <a:srgbClr val="e468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 Narrow"/>
              </a:rPr>
              <a:t>Ce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 Narrow"/>
              </a:rPr>
              <a:t>ogól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6276240" y="2685240"/>
            <a:ext cx="3811680" cy="520560"/>
          </a:xfrm>
          <a:prstGeom prst="rect">
            <a:avLst/>
          </a:prstGeom>
          <a:solidFill>
            <a:srgbClr val="e468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 Narrow"/>
              </a:rPr>
              <a:t>Cele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448920"/>
            <a:ext cx="84326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900" spc="-1" strike="noStrike">
                <a:solidFill>
                  <a:srgbClr val="330033"/>
                </a:solidFill>
                <a:latin typeface="Times New Roman"/>
              </a:rPr>
              <a:t>Wkład (input)</a:t>
            </a:r>
            <a:endParaRPr b="0" lang="en-US" sz="3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328400"/>
            <a:ext cx="837576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3480" indent="0">
              <a:lnSpc>
                <a:spcPct val="1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soby zaangażowane przez beneficjenta w trakcie wdrażania danego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3480" indent="0">
              <a:lnSpc>
                <a:spcPct val="1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soby finansowe, zasoby ludzkie, zasoby materialne, zasoby organizacyjne it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448920"/>
            <a:ext cx="8280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900" spc="-1" strike="noStrike">
                <a:solidFill>
                  <a:srgbClr val="330033"/>
                </a:solidFill>
                <a:latin typeface="Times New Roman"/>
              </a:rPr>
              <a:t>Produkt (output)</a:t>
            </a:r>
            <a:endParaRPr b="0" lang="en-US" sz="3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820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8200" indent="0">
              <a:lnSpc>
                <a:spcPct val="170000"/>
              </a:lnSpc>
              <a:spcBef>
                <a:spcPts val="876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szystkie produkty materialne i usługi, które otrzymuje beneficjent w trakcie realizacji projektu przy wykorzystaniu zaangażowanych zasobów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448920"/>
            <a:ext cx="82040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900" spc="-1" strike="noStrike">
                <a:solidFill>
                  <a:srgbClr val="330033"/>
                </a:solidFill>
                <a:latin typeface="Times New Roman"/>
              </a:rPr>
              <a:t>Rezultat (result)</a:t>
            </a:r>
            <a:endParaRPr b="0" lang="en-US" sz="3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zpośrednie i natychmiastowe efekty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456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miany, jakie nastąpiły w wyniku wdrożenia projektu u bezpośrednich beneficjentów pomo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920000" cy="1076400"/>
          </a:xfrm>
          <a:prstGeom prst="rect">
            <a:avLst/>
          </a:prstGeom>
          <a:solidFill>
            <a:srgbClr val="a7be3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CEL – pozytywny, oczekiwany stan w przyszłości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6560" y="5229000"/>
            <a:ext cx="7479000" cy="990360"/>
          </a:xfrm>
          <a:prstGeom prst="rect">
            <a:avLst/>
          </a:prstGeom>
          <a:solidFill>
            <a:srgbClr val="f14f57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–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ywny obraz rzeczywisto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5760"/>
            <a:ext cx="37134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0033"/>
                </a:solidFill>
                <a:latin typeface="Times New Roman"/>
              </a:rPr>
              <a:t>Rola projektu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40000" y="2205000"/>
            <a:ext cx="4465440" cy="287964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24528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 to jest projekt 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765000"/>
            <a:ext cx="860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349360"/>
            <a:ext cx="8915400" cy="40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łuży realizacji określonego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el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iada skoordynowane i wzajemnie powiązane ze sobą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ział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est ograniczone w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zasi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ma określony początek i koniec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iada określon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udżet i zasob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a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yjątkow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harak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19280" y="15238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zedsięwzięcie, któ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19:33:03Z</dcterms:created>
  <dc:creator>ania</dc:creator>
  <dc:description/>
  <dc:language>en-US</dc:language>
  <cp:lastModifiedBy>lalickma</cp:lastModifiedBy>
  <dcterms:modified xsi:type="dcterms:W3CDTF">2007-12-14T12:42:44Z</dcterms:modified>
  <cp:revision>31</cp:revision>
  <dc:subject/>
  <dc:title>PROJEKT – od pomysłu do realizacj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124621599</vt:r8>
  </property>
  <property fmtid="{D5CDD505-2E9C-101B-9397-08002B2CF9AE}" pid="3" name="_AuthorEmail">
    <vt:lpwstr>siekieew@ws_nt7.umk</vt:lpwstr>
  </property>
  <property fmtid="{D5CDD505-2E9C-101B-9397-08002B2CF9AE}" pid="4" name="_AuthorEmailDisplayName">
    <vt:lpwstr>Siekierzyńska Ewa</vt:lpwstr>
  </property>
  <property fmtid="{D5CDD505-2E9C-101B-9397-08002B2CF9AE}" pid="5" name="_EmailSubject">
    <vt:lpwstr>materiały na portal</vt:lpwstr>
  </property>
</Properties>
</file>